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8AF-B8A5-42C9-AA51-5F0575D5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882-EF63-4379-AEB6-2B336515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2C2-A0E5-4EB6-AC1A-4E0FEF28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3CC-D32F-4117-81AF-0D57BB9F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A975-57D1-4484-9DFD-7175B170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36F9-AB92-4595-944F-93A826B4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11E0-C465-4A0C-B0A5-D832850F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0169-4A01-471A-80E3-CD3FCEEA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FBA9-3A78-4CC6-818C-7EAAC4C1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CA69-956E-4CBC-A86D-B81FF276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FDCB-D621-47E3-9BFF-612828F1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09E-7E97-415C-9425-D9EB9100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6746-3B82-4D4F-B949-8020B2B1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E65C-49AE-4845-A834-E559011E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AB36-D871-4D75-B752-431EA7F0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5A11-9B0F-4BFE-AF74-A7B79D88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7DBE-08F7-437F-9529-E15181CE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40B-A4CF-45A7-B423-753DE3E3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1A9-6471-4F93-A58A-3F59D493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75B-F772-4411-88F8-EB717BBD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D9B-22BC-4558-A162-69951594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292-15B6-45EA-9CE7-67EFF197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1BD-1200-44A1-B4F9-8488C51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DC4-6966-4DA1-8946-38DFD766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FCEB-979B-4C30-9499-3C7407DB2A1B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715240" y="0"/>
            <a:ext cx="428760" cy="5335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3505320" cy="49068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7168320" y="4428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3333cc"/>
                </a:solidFill>
                <a:latin typeface="Arial Black"/>
              </a:rPr>
              <a:t>VoIP Labo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9ABE-2269-463F-9211-5CCAF1FE48D4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715240" y="0"/>
            <a:ext cx="42876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eck New V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Cl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Choo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heck New Ver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See the latest version 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4)Click the latest version 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5)Download the setup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1400" y="609480"/>
            <a:ext cx="78026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TP Spy - Rep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1)Open a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2)Select RTP Spy t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3)Select one entry in Session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4)Select one entry in Media In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5)Click play button on Play Control Panel to play the RTP str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71400" y="609480"/>
            <a:ext cx="78026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itter Buf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)Open a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Sele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TP Sp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Select one entry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ession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Select one entry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dia In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5)We can see its Dropped 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6)Clic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Jitter Buff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7)Select the same entry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ession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8)Select the same entry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edia In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9)We can see the change of its Dropped 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1400" y="609480"/>
            <a:ext cx="78026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is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Open a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t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1400" y="609480"/>
            <a:ext cx="78026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1400" y="609480"/>
            <a:ext cx="78026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Cap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Cl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Local Cap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utt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Select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vailable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Click plus (+) to add the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4)Cl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ic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rt/stop cap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utton to start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cket cap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1400" y="609480"/>
            <a:ext cx="78026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ckage View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Open the sample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cket Vie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lect one entry in the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ame Li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uble-click to expand the tre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w data of the packet in he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1400" y="609480"/>
            <a:ext cx="78026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SIP Viewer - FlowCh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1)Open a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Sele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IP View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elect one entry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Dialog(Call-leg)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ight-click and sele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Draw Flowchar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to open SIP Flowchar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5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ele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Draw flowchart from hea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to open Advanced SIP Flowchar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6)Clic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ext Wind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ut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ight-click and select Draw Flowchart for Headers to open SIP Flowchar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1400" y="609480"/>
            <a:ext cx="78026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p Viewer - Compa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1)Open a 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2)Select SIP Viewer t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Arial"/>
              </a:rPr>
              <a:t>Select one entry in Dialog(Call-leg) List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Arial"/>
              </a:rPr>
              <a:t>Select one entry in SIP Packet List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Arial"/>
              </a:rPr>
              <a:t>Right-click and select Add to comparsion to open compa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Arial"/>
              </a:rPr>
              <a:t>(6)Click Next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Window but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7)Select another entry in SIP Packe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8)Right-click and select Add to comparsion to insert in compa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17:30Z</dcterms:created>
  <dc:creator>Min Chen</dc:creator>
  <dc:description/>
  <dc:language>en-US</dc:language>
  <cp:lastModifiedBy>voip</cp:lastModifiedBy>
  <dcterms:modified xsi:type="dcterms:W3CDTF">2004-09-30T14:58:56Z</dcterms:modified>
  <cp:revision>14</cp:revision>
  <dc:subject/>
  <dc:title>Check New Version</dc:title>
</cp:coreProperties>
</file>