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.wmf" ContentType="image/x-wmf"/>
  <Override PartName="/ppt/media/image10.wmf" ContentType="image/x-wmf"/>
  <Override PartName="/ppt/media/image2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4B3A-9118-4652-9C47-EEDBC24A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79AD-07A1-446A-A5E5-0DB7FBB8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1C2D-59CD-4B78-A651-4D9A9ADB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FBFB-7358-49EA-8B0C-A8C847FE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637E-8C11-49EF-9967-22014297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16F0-5A48-4048-9286-A15BED5D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FD6E-4FA3-422E-B70A-3B7922D1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8ADB-84B5-48F0-8FC8-574EAFE3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DEC1-ECD8-43D1-B101-FA8BA9CC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F208-7FF2-4869-937C-0BE73CD7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8175-7EEE-4741-AD52-D7AD75B7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EBF8-08EC-4132-A335-2A466C53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8F8C-E654-46B3-AD6F-7EEA0B2E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3D7D-E10A-4B76-97CD-CDD62E3B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87FC-AC64-4D50-8085-7516D681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4B90-F48A-4FCD-84F8-3C0578BE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8D32-D75E-4003-884B-7120B080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EF41-CDB2-4230-83DC-4ACC1A57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D7AC-5A34-485D-B355-E1491C5E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83E0-3468-43C8-9F6E-163FC84D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25A-9F41-4127-9143-10546ECE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8E7-C5D8-4687-9AAD-787F7276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67FA-8264-4ECF-9A2A-E665C0E9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929-CAFA-40FF-83FF-B6113E0B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2A2B-7E4E-445E-8D8E-BDC4D033C7DE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CDF6-CDB7-40F8-A69E-13A8E50C08ED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13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wmf"/><Relationship Id="rId3" Type="http://schemas.openxmlformats.org/officeDocument/2006/relationships/image" Target="../media/image14.wmf"/><Relationship Id="rId4" Type="http://schemas.openxmlformats.org/officeDocument/2006/relationships/image" Target="../media/image13.wmf"/><Relationship Id="rId5" Type="http://schemas.openxmlformats.org/officeDocument/2006/relationships/image" Target="../media/image15.wmf"/><Relationship Id="rId6" Type="http://schemas.openxmlformats.org/officeDocument/2006/relationships/image" Target="../media/image8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wmf"/><Relationship Id="rId3" Type="http://schemas.openxmlformats.org/officeDocument/2006/relationships/image" Target="../media/image17.wmf"/><Relationship Id="rId4" Type="http://schemas.openxmlformats.org/officeDocument/2006/relationships/image" Target="../media/image13.wmf"/><Relationship Id="rId5" Type="http://schemas.openxmlformats.org/officeDocument/2006/relationships/image" Target="../media/image10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6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xmlrpc.com/spec" TargetMode="External"/><Relationship Id="rId2" Type="http://schemas.openxmlformats.org/officeDocument/2006/relationships/image" Target="../media/image16.wmf"/><Relationship Id="rId3" Type="http://schemas.openxmlformats.org/officeDocument/2006/relationships/image" Target="../media/image10.wmf"/><Relationship Id="rId4" Type="http://schemas.openxmlformats.org/officeDocument/2006/relationships/image" Target="../media/image17.wmf"/><Relationship Id="rId5" Type="http://schemas.openxmlformats.org/officeDocument/2006/relationships/image" Target="../media/image16.wmf"/><Relationship Id="rId6" Type="http://schemas.openxmlformats.org/officeDocument/2006/relationships/image" Target="../media/image18.wmf"/><Relationship Id="rId7" Type="http://schemas.openxmlformats.org/officeDocument/2006/relationships/image" Target="../media/image16.wmf"/><Relationship Id="rId8" Type="http://schemas.openxmlformats.org/officeDocument/2006/relationships/image" Target="../media/image14.wmf"/><Relationship Id="rId9" Type="http://schemas.openxmlformats.org/officeDocument/2006/relationships/image" Target="../media/image8.wmf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0.wmf"/><Relationship Id="rId3" Type="http://schemas.openxmlformats.org/officeDocument/2006/relationships/image" Target="../media/image17.wmf"/><Relationship Id="rId4" Type="http://schemas.openxmlformats.org/officeDocument/2006/relationships/image" Target="../media/image16.wmf"/><Relationship Id="rId5" Type="http://schemas.openxmlformats.org/officeDocument/2006/relationships/image" Target="../media/image18.wmf"/><Relationship Id="rId6" Type="http://schemas.openxmlformats.org/officeDocument/2006/relationships/image" Target="../media/image16.wmf"/><Relationship Id="rId7" Type="http://schemas.openxmlformats.org/officeDocument/2006/relationships/image" Target="../media/image13.wmf"/><Relationship Id="rId8" Type="http://schemas.openxmlformats.org/officeDocument/2006/relationships/image" Target="../media/image12.wmf"/><Relationship Id="rId9" Type="http://schemas.openxmlformats.org/officeDocument/2006/relationships/image" Target="../media/image16.wmf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家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 ZAURUS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の開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76520" y="3429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003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応募者：上原　昭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応募番号：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0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457524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目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家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ZAURUS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開発背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家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ZAURUS”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とは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家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ZAURUS”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稼動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実装した範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8726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携帯サーバ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UI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インタフェースにウェブを使用：　ウェブのセッション管理を実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ドライバソフト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ug &amp; Play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機能：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by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ソースコードに直接手書きして実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ドライバソフト：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クライアント･ソフトとして実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情報家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仮想的な情報家電を，サンプルプログラムとして提供した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サーバとして動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今後の実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情報家電コンセント（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S6, IPv6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普及・高度化推進協議会　様より提供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サーバを搭載し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S6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を制御可能とす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S6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向け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サーバは，フリーソフトとして提供されている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あとは，“自分向け”プログラムを書くだけで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52280" y="2057400"/>
            <a:ext cx="7010640" cy="4114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33cc"/>
                </a:solidFill>
                <a:latin typeface="Tahoma"/>
              </a:rPr>
              <a:t>アプリケーション構築例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43000" y="7620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livingscreen" descr=""/>
          <p:cNvPicPr/>
          <p:nvPr/>
        </p:nvPicPr>
        <p:blipFill>
          <a:blip r:embed="rId1"/>
          <a:stretch/>
        </p:blipFill>
        <p:spPr>
          <a:xfrm>
            <a:off x="3124080" y="4419720"/>
            <a:ext cx="2514600" cy="1681200"/>
          </a:xfrm>
          <a:prstGeom prst="rect">
            <a:avLst/>
          </a:prstGeom>
          <a:ln w="0">
            <a:noFill/>
          </a:ln>
        </p:spPr>
      </p:pic>
      <p:pic>
        <p:nvPicPr>
          <p:cNvPr id="327" name="homescreen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328" name="server_log" descr=""/>
          <p:cNvPicPr/>
          <p:nvPr/>
        </p:nvPicPr>
        <p:blipFill>
          <a:blip r:embed="rId3"/>
          <a:stretch/>
        </p:blipFill>
        <p:spPr>
          <a:xfrm>
            <a:off x="7315200" y="1905120"/>
            <a:ext cx="1638360" cy="1143000"/>
          </a:xfrm>
          <a:prstGeom prst="rect">
            <a:avLst/>
          </a:prstGeom>
          <a:ln w="0">
            <a:noFill/>
          </a:ln>
        </p:spPr>
      </p:pic>
      <p:pic>
        <p:nvPicPr>
          <p:cNvPr id="329" name="entrancescreen" descr=""/>
          <p:cNvPicPr/>
          <p:nvPr/>
        </p:nvPicPr>
        <p:blipFill>
          <a:blip r:embed="rId4"/>
          <a:stretch/>
        </p:blipFill>
        <p:spPr>
          <a:xfrm>
            <a:off x="228600" y="4343400"/>
            <a:ext cx="2629080" cy="17589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343400" y="2286000"/>
            <a:ext cx="26668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ドライバソフトウェ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14600" y="2286000"/>
            <a:ext cx="160020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セッション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server_log" descr=""/>
          <p:cNvPicPr/>
          <p:nvPr/>
        </p:nvPicPr>
        <p:blipFill>
          <a:blip r:embed="rId5"/>
          <a:stretch/>
        </p:blipFill>
        <p:spPr>
          <a:xfrm>
            <a:off x="7315200" y="4419720"/>
            <a:ext cx="1638360" cy="1143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343400" y="2895480"/>
            <a:ext cx="26668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ドライバソフトウェ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1028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10280" y="3048120"/>
            <a:ext cx="3812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48040" y="55627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情報家電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サーバ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28564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2438280" y="33526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00400" y="342900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32040" y="373392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10440" y="3581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PC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9560" y="6095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携帯サー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53920" y="3429000"/>
            <a:ext cx="140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ドライバ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追加で新し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機器が操作可能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4876560" y="33523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26360" y="6156360"/>
            <a:ext cx="289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I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で構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プラットフォームに依存しない実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4800240" y="60955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はじめに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不便だぞ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!!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家電コンセント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11692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-116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ｖ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家電コンセントを導入した　→携帯で家電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できる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!!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便利だぞ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-116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はじめは→携帯からコンセントを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できて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便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6640" indent="-116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そのうち→</a:t>
            </a:r>
            <a:r>
              <a:rPr b="1" lang="ja-JP" sz="2000" spc="-1" strike="noStrike">
                <a:solidFill>
                  <a:srgbClr val="ff0000"/>
                </a:solidFill>
                <a:latin typeface="Tahoma"/>
              </a:rPr>
              <a:t>不満爆発．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家のコンセントを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するのに，いったいいくつのリンクをたどればいいの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お風呂を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したら，エアコンを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分後に“自動で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して欲しいのに．．．自分で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しないとだめなの？　たくさんコンセントがあるけど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アドレスが違うから，いちいち１つづつアクセスしないとだめなんて不便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-116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解決策　→　お家にサーバーを置いて，サーバで一括制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-116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サーバーにアクセスするだけで家の家電が制御できるようにした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-116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これでも不満が出る　→離れたところにある家とオフィス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HO)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を管理するの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場所ごとにいちいちサーバー置かないとダメなんて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!!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一括管理できないの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そんなこといわれたって．．．どうすりゃいいの．．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サーバが“場所”に固定されてるのが悪いんだ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E01460_" descr=""/>
          <p:cNvPicPr/>
          <p:nvPr/>
        </p:nvPicPr>
        <p:blipFill>
          <a:blip r:embed="rId1"/>
          <a:stretch/>
        </p:blipFill>
        <p:spPr>
          <a:xfrm>
            <a:off x="8285040" y="5410080"/>
            <a:ext cx="858960" cy="1067040"/>
          </a:xfrm>
          <a:prstGeom prst="rect">
            <a:avLst/>
          </a:prstGeom>
          <a:ln w="0">
            <a:noFill/>
          </a:ln>
        </p:spPr>
      </p:pic>
      <p:sp>
        <p:nvSpPr>
          <p:cNvPr id="105" name="Homepage"/>
          <p:cNvSpPr/>
          <p:nvPr/>
        </p:nvSpPr>
        <p:spPr>
          <a:xfrm>
            <a:off x="7238880" y="5715000"/>
            <a:ext cx="533520" cy="657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ebpage"/>
          <p:cNvSpPr/>
          <p:nvPr/>
        </p:nvSpPr>
        <p:spPr>
          <a:xfrm>
            <a:off x="6324480" y="5410080"/>
            <a:ext cx="685800" cy="8953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58672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6172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75080" y="640080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うち“までウェブをたどるの面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52680" y="4724280"/>
            <a:ext cx="1600200" cy="114300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提案内容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俺はこれが欲しいんだ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3333cc"/>
                </a:solidFill>
                <a:uFillTx/>
                <a:latin typeface="Tahoma"/>
              </a:rPr>
              <a:t>制御する“場所“にサーバを置かなくてもいいじゃない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“</a:t>
            </a:r>
            <a:r>
              <a:rPr b="1" lang="ja-JP" sz="2400" spc="-1" strike="noStrike" u="sng">
                <a:solidFill>
                  <a:srgbClr val="3333cc"/>
                </a:solidFill>
                <a:uFillTx/>
                <a:latin typeface="Tahoma"/>
              </a:rPr>
              <a:t>携帯”サーバー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で行こ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サーバーを持ち歩くと，こんなに便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リアルタイム：画面を見れば，即自に家電の状態が把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即時性：いちいちネットにアクセスしなくても即時制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統一性：オフィスだろうが家だろうが場所に寄らず即制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BD04862_(p)" descr="クリックでダウンロード"/>
          <p:cNvPicPr/>
          <p:nvPr/>
        </p:nvPicPr>
        <p:blipFill>
          <a:blip r:embed="rId1"/>
          <a:stretch/>
        </p:blipFill>
        <p:spPr>
          <a:xfrm>
            <a:off x="457200" y="565452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4" name="j0202496(p)" descr="クリックでダウンロード"/>
          <p:cNvPicPr/>
          <p:nvPr/>
        </p:nvPicPr>
        <p:blipFill>
          <a:blip r:embed="rId2"/>
          <a:stretch/>
        </p:blipFill>
        <p:spPr>
          <a:xfrm>
            <a:off x="228600" y="4114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5" name="j0205620(p)" descr="クリックでダウンロード"/>
          <p:cNvPicPr/>
          <p:nvPr/>
        </p:nvPicPr>
        <p:blipFill>
          <a:blip r:embed="rId3"/>
          <a:stretch/>
        </p:blipFill>
        <p:spPr>
          <a:xfrm flipH="1">
            <a:off x="3733560" y="4876920"/>
            <a:ext cx="896760" cy="990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1447920" y="579096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219320" y="449532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17120" y="5334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家の家電の状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90000" y="6324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家電を制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23520" y="6095880"/>
            <a:ext cx="1752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4800600"/>
            <a:ext cx="1904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5160" y="49528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自分のオフィスの家電の状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18600" y="4191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家電を制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86600" y="58672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cf01"/>
                </a:solidFill>
                <a:uFillTx/>
                <a:latin typeface="Tahoma"/>
              </a:rPr>
              <a:t>“</a:t>
            </a:r>
            <a:r>
              <a:rPr b="0" lang="ja-JP" sz="2400" spc="-1" strike="noStrike" u="sng">
                <a:solidFill>
                  <a:srgbClr val="ffcf01"/>
                </a:solidFill>
                <a:uFillTx/>
                <a:latin typeface="Tahoma"/>
              </a:rPr>
              <a:t>携帯”サーバ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4191120"/>
            <a:ext cx="2361960" cy="21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21960" y="4191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表示画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5105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j0230304(p)" descr="クリックでダウンロード"/>
          <p:cNvPicPr/>
          <p:nvPr/>
        </p:nvPicPr>
        <p:blipFill>
          <a:blip r:embed="rId4"/>
          <a:stretch/>
        </p:blipFill>
        <p:spPr>
          <a:xfrm>
            <a:off x="7620120" y="4343400"/>
            <a:ext cx="807840" cy="808200"/>
          </a:xfrm>
          <a:prstGeom prst="rect">
            <a:avLst/>
          </a:prstGeom>
          <a:ln w="0">
            <a:noFill/>
          </a:ln>
        </p:spPr>
      </p:pic>
      <p:pic>
        <p:nvPicPr>
          <p:cNvPr id="129" name="j0230303(p)" descr="クリックでダウンロード"/>
          <p:cNvPicPr/>
          <p:nvPr/>
        </p:nvPicPr>
        <p:blipFill>
          <a:blip r:embed="rId5"/>
          <a:stretch/>
        </p:blipFill>
        <p:spPr>
          <a:xfrm>
            <a:off x="6477120" y="43894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30" name="BD04862_(p)" descr="クリックでダウンロード"/>
          <p:cNvPicPr/>
          <p:nvPr/>
        </p:nvPicPr>
        <p:blipFill>
          <a:blip r:embed="rId6"/>
          <a:stretch/>
        </p:blipFill>
        <p:spPr>
          <a:xfrm>
            <a:off x="6400800" y="52578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31" name="j0089999(p)" descr="クリックでダウンロード"/>
          <p:cNvPicPr/>
          <p:nvPr/>
        </p:nvPicPr>
        <p:blipFill>
          <a:blip r:embed="rId7"/>
          <a:stretch/>
        </p:blipFill>
        <p:spPr>
          <a:xfrm>
            <a:off x="7543800" y="525780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793560" y="65214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全ての情報が手の中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検討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1): 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要求は何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ユーザーの立場から，情報家電をどう使いたいかを分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ネットワーク上の“自分の所有している”機器を操作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要求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自分の所有している情報家電を操作する“万能リモコン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j0237845" descr=""/>
          <p:cNvPicPr/>
          <p:nvPr/>
        </p:nvPicPr>
        <p:blipFill>
          <a:blip r:embed="rId1"/>
          <a:stretch/>
        </p:blipFill>
        <p:spPr>
          <a:xfrm>
            <a:off x="4800600" y="5943600"/>
            <a:ext cx="762120" cy="611280"/>
          </a:xfrm>
          <a:prstGeom prst="rect">
            <a:avLst/>
          </a:prstGeom>
          <a:ln w="0">
            <a:noFill/>
          </a:ln>
        </p:spPr>
      </p:pic>
      <p:pic>
        <p:nvPicPr>
          <p:cNvPr id="136" name="HH01683_" descr=""/>
          <p:cNvPicPr/>
          <p:nvPr/>
        </p:nvPicPr>
        <p:blipFill>
          <a:blip r:embed="rId2"/>
          <a:stretch/>
        </p:blipFill>
        <p:spPr>
          <a:xfrm flipH="1">
            <a:off x="457200" y="4987800"/>
            <a:ext cx="528480" cy="534960"/>
          </a:xfrm>
          <a:prstGeom prst="rect">
            <a:avLst/>
          </a:prstGeom>
          <a:ln w="0">
            <a:noFill/>
          </a:ln>
        </p:spPr>
      </p:pic>
      <p:pic>
        <p:nvPicPr>
          <p:cNvPr id="137" name="j0230668" descr=""/>
          <p:cNvPicPr/>
          <p:nvPr/>
        </p:nvPicPr>
        <p:blipFill>
          <a:blip r:embed="rId3"/>
          <a:stretch/>
        </p:blipFill>
        <p:spPr>
          <a:xfrm>
            <a:off x="2057400" y="5334120"/>
            <a:ext cx="619200" cy="1330200"/>
          </a:xfrm>
          <a:prstGeom prst="rect">
            <a:avLst/>
          </a:prstGeom>
          <a:ln w="0">
            <a:noFill/>
          </a:ln>
        </p:spPr>
      </p:pic>
      <p:pic>
        <p:nvPicPr>
          <p:cNvPr id="138" name="j0212551" descr=""/>
          <p:cNvPicPr/>
          <p:nvPr/>
        </p:nvPicPr>
        <p:blipFill>
          <a:blip r:embed="rId4"/>
          <a:stretch/>
        </p:blipFill>
        <p:spPr>
          <a:xfrm>
            <a:off x="1295280" y="4606920"/>
            <a:ext cx="739800" cy="906480"/>
          </a:xfrm>
          <a:prstGeom prst="rect">
            <a:avLst/>
          </a:prstGeom>
          <a:ln w="0">
            <a:noFill/>
          </a:ln>
        </p:spPr>
      </p:pic>
      <p:pic>
        <p:nvPicPr>
          <p:cNvPr id="139" name="HH01727_" descr=""/>
          <p:cNvPicPr/>
          <p:nvPr/>
        </p:nvPicPr>
        <p:blipFill>
          <a:blip r:embed="rId5"/>
          <a:stretch/>
        </p:blipFill>
        <p:spPr>
          <a:xfrm>
            <a:off x="228600" y="3997440"/>
            <a:ext cx="1066680" cy="952560"/>
          </a:xfrm>
          <a:prstGeom prst="rect">
            <a:avLst/>
          </a:prstGeom>
          <a:ln w="0">
            <a:noFill/>
          </a:ln>
        </p:spPr>
      </p:pic>
      <p:pic>
        <p:nvPicPr>
          <p:cNvPr id="140" name="HH01683_" descr=""/>
          <p:cNvPicPr/>
          <p:nvPr/>
        </p:nvPicPr>
        <p:blipFill>
          <a:blip r:embed="rId6"/>
          <a:stretch/>
        </p:blipFill>
        <p:spPr>
          <a:xfrm flipH="1">
            <a:off x="380520" y="5445000"/>
            <a:ext cx="528840" cy="534960"/>
          </a:xfrm>
          <a:prstGeom prst="rect">
            <a:avLst/>
          </a:prstGeom>
          <a:ln w="0">
            <a:noFill/>
          </a:ln>
        </p:spPr>
      </p:pic>
      <p:pic>
        <p:nvPicPr>
          <p:cNvPr id="141" name="HH01683_" descr=""/>
          <p:cNvPicPr/>
          <p:nvPr/>
        </p:nvPicPr>
        <p:blipFill>
          <a:blip r:embed="rId7"/>
          <a:stretch/>
        </p:blipFill>
        <p:spPr>
          <a:xfrm flipH="1">
            <a:off x="837720" y="5902200"/>
            <a:ext cx="528840" cy="534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V="1">
            <a:off x="762120" y="491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38080" y="54446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590220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809880"/>
            <a:ext cx="2971800" cy="28958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429000"/>
            <a:ext cx="24382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ネットワーク化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BS01640_" descr=""/>
          <p:cNvPicPr/>
          <p:nvPr/>
        </p:nvPicPr>
        <p:blipFill>
          <a:blip r:embed="rId8"/>
          <a:stretch/>
        </p:blipFill>
        <p:spPr>
          <a:xfrm>
            <a:off x="6172200" y="5029200"/>
            <a:ext cx="749160" cy="757080"/>
          </a:xfrm>
          <a:prstGeom prst="rect">
            <a:avLst/>
          </a:prstGeom>
          <a:ln w="0">
            <a:noFill/>
          </a:ln>
        </p:spPr>
      </p:pic>
      <p:pic>
        <p:nvPicPr>
          <p:cNvPr id="148" name="j0230668" descr=""/>
          <p:cNvPicPr/>
          <p:nvPr/>
        </p:nvPicPr>
        <p:blipFill>
          <a:blip r:embed="rId9"/>
          <a:stretch/>
        </p:blipFill>
        <p:spPr>
          <a:xfrm>
            <a:off x="8001000" y="5029200"/>
            <a:ext cx="619200" cy="1330200"/>
          </a:xfrm>
          <a:prstGeom prst="rect">
            <a:avLst/>
          </a:prstGeom>
          <a:ln w="0">
            <a:noFill/>
          </a:ln>
        </p:spPr>
      </p:pic>
      <p:pic>
        <p:nvPicPr>
          <p:cNvPr id="149" name="j0212551" descr=""/>
          <p:cNvPicPr/>
          <p:nvPr/>
        </p:nvPicPr>
        <p:blipFill>
          <a:blip r:embed="rId10"/>
          <a:stretch/>
        </p:blipFill>
        <p:spPr>
          <a:xfrm>
            <a:off x="6858000" y="4378320"/>
            <a:ext cx="739800" cy="906480"/>
          </a:xfrm>
          <a:prstGeom prst="rect">
            <a:avLst/>
          </a:prstGeom>
          <a:ln w="0">
            <a:noFill/>
          </a:ln>
        </p:spPr>
      </p:pic>
      <p:pic>
        <p:nvPicPr>
          <p:cNvPr id="150" name="HH01727_" descr=""/>
          <p:cNvPicPr/>
          <p:nvPr/>
        </p:nvPicPr>
        <p:blipFill>
          <a:blip r:embed="rId11"/>
          <a:stretch/>
        </p:blipFill>
        <p:spPr>
          <a:xfrm>
            <a:off x="5410080" y="3886200"/>
            <a:ext cx="1067040" cy="952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5562720" y="563868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32448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781680" y="50292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548640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560" y="63244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多くのリモコ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64360" y="4191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家電製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03040" y="40384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家電製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34240" y="5029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3920" y="609588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ネットワーク端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D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733920"/>
            <a:ext cx="4419720" cy="289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3429000"/>
            <a:ext cx="25146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ネットワーク化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28200" y="3733920"/>
            <a:ext cx="109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どこからで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いつで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操作した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j0078625" descr=""/>
          <p:cNvPicPr/>
          <p:nvPr/>
        </p:nvPicPr>
        <p:blipFill>
          <a:blip r:embed="rId12"/>
          <a:stretch/>
        </p:blipFill>
        <p:spPr>
          <a:xfrm flipH="1" rot="10800000">
            <a:off x="3657600" y="4723920"/>
            <a:ext cx="255600" cy="776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471120" y="5486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ネット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6019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400800" y="3886200"/>
            <a:ext cx="2286000" cy="10666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検討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2): 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現状はどう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7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ウェブ･ブラウザを通して操作するものが多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最初に述べたように，操作性に不満がで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機器構成の分析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ウェブ経由で操作するため，“多数のリモコンを所有”している状態になる　→　ネット化前と操作の不便さはかわ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3809880"/>
            <a:ext cx="2971800" cy="28958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3429000"/>
            <a:ext cx="25905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ウェブ経由で制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BS01640_" descr=""/>
          <p:cNvPicPr/>
          <p:nvPr/>
        </p:nvPicPr>
        <p:blipFill>
          <a:blip r:embed="rId1"/>
          <a:stretch/>
        </p:blipFill>
        <p:spPr>
          <a:xfrm>
            <a:off x="4952880" y="4114800"/>
            <a:ext cx="749520" cy="757080"/>
          </a:xfrm>
          <a:prstGeom prst="rect">
            <a:avLst/>
          </a:prstGeom>
          <a:ln w="0">
            <a:noFill/>
          </a:ln>
        </p:spPr>
      </p:pic>
      <p:pic>
        <p:nvPicPr>
          <p:cNvPr id="172" name="j0230668" descr=""/>
          <p:cNvPicPr/>
          <p:nvPr/>
        </p:nvPicPr>
        <p:blipFill>
          <a:blip r:embed="rId2"/>
          <a:stretch/>
        </p:blipFill>
        <p:spPr>
          <a:xfrm>
            <a:off x="8305920" y="5181480"/>
            <a:ext cx="618840" cy="1330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805640" y="3809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3733920"/>
            <a:ext cx="4419720" cy="289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3429000"/>
            <a:ext cx="25146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機器の内部構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44760" y="3429000"/>
            <a:ext cx="109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機器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部構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をみてみよ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j0078625" descr=""/>
          <p:cNvPicPr/>
          <p:nvPr/>
        </p:nvPicPr>
        <p:blipFill>
          <a:blip r:embed="rId3"/>
          <a:stretch/>
        </p:blipFill>
        <p:spPr>
          <a:xfrm flipH="1" rot="10800000">
            <a:off x="3657600" y="4419720"/>
            <a:ext cx="255600" cy="776160"/>
          </a:xfrm>
          <a:prstGeom prst="rect">
            <a:avLst/>
          </a:prstGeom>
          <a:ln w="0">
            <a:noFill/>
          </a:ln>
        </p:spPr>
      </p:pic>
      <p:sp>
        <p:nvSpPr>
          <p:cNvPr id="178" name="Homepage"/>
          <p:cNvSpPr/>
          <p:nvPr/>
        </p:nvSpPr>
        <p:spPr>
          <a:xfrm>
            <a:off x="228600" y="5029200"/>
            <a:ext cx="380880" cy="404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BS01640_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749520" cy="757080"/>
          </a:xfrm>
          <a:prstGeom prst="rect">
            <a:avLst/>
          </a:prstGeom>
          <a:ln w="0">
            <a:noFill/>
          </a:ln>
        </p:spPr>
      </p:pic>
      <p:pic>
        <p:nvPicPr>
          <p:cNvPr id="180" name="j0078703" descr=""/>
          <p:cNvPicPr/>
          <p:nvPr/>
        </p:nvPicPr>
        <p:blipFill>
          <a:blip r:embed="rId5"/>
          <a:stretch/>
        </p:blipFill>
        <p:spPr>
          <a:xfrm>
            <a:off x="152280" y="5791320"/>
            <a:ext cx="524160" cy="904680"/>
          </a:xfrm>
          <a:prstGeom prst="rect">
            <a:avLst/>
          </a:prstGeom>
          <a:ln w="0">
            <a:noFill/>
          </a:ln>
        </p:spPr>
      </p:pic>
      <p:pic>
        <p:nvPicPr>
          <p:cNvPr id="181" name="j0237845" descr=""/>
          <p:cNvPicPr/>
          <p:nvPr/>
        </p:nvPicPr>
        <p:blipFill>
          <a:blip r:embed="rId6"/>
          <a:stretch/>
        </p:blipFill>
        <p:spPr>
          <a:xfrm>
            <a:off x="609480" y="6019920"/>
            <a:ext cx="762120" cy="610920"/>
          </a:xfrm>
          <a:prstGeom prst="rect">
            <a:avLst/>
          </a:prstGeom>
          <a:ln w="0">
            <a:noFill/>
          </a:ln>
        </p:spPr>
      </p:pic>
      <p:sp>
        <p:nvSpPr>
          <p:cNvPr id="182" name="Homepage"/>
          <p:cNvSpPr/>
          <p:nvPr/>
        </p:nvSpPr>
        <p:spPr>
          <a:xfrm>
            <a:off x="762120" y="5029200"/>
            <a:ext cx="380880" cy="404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Homepage"/>
          <p:cNvSpPr/>
          <p:nvPr/>
        </p:nvSpPr>
        <p:spPr>
          <a:xfrm>
            <a:off x="762120" y="5562720"/>
            <a:ext cx="380880" cy="404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j0230668" descr=""/>
          <p:cNvPicPr/>
          <p:nvPr/>
        </p:nvPicPr>
        <p:blipFill>
          <a:blip r:embed="rId7"/>
          <a:stretch/>
        </p:blipFill>
        <p:spPr>
          <a:xfrm>
            <a:off x="2209680" y="5334120"/>
            <a:ext cx="441360" cy="949320"/>
          </a:xfrm>
          <a:prstGeom prst="rect">
            <a:avLst/>
          </a:prstGeom>
          <a:ln w="0">
            <a:noFill/>
          </a:ln>
        </p:spPr>
      </p:pic>
      <p:pic>
        <p:nvPicPr>
          <p:cNvPr id="185" name="j0212551" descr=""/>
          <p:cNvPicPr/>
          <p:nvPr/>
        </p:nvPicPr>
        <p:blipFill>
          <a:blip r:embed="rId8"/>
          <a:stretch/>
        </p:blipFill>
        <p:spPr>
          <a:xfrm>
            <a:off x="2133720" y="4648320"/>
            <a:ext cx="490320" cy="601560"/>
          </a:xfrm>
          <a:prstGeom prst="rect">
            <a:avLst/>
          </a:prstGeom>
          <a:ln w="0">
            <a:noFill/>
          </a:ln>
        </p:spPr>
      </p:pic>
      <p:pic>
        <p:nvPicPr>
          <p:cNvPr id="186" name="HH01727_" descr=""/>
          <p:cNvPicPr/>
          <p:nvPr/>
        </p:nvPicPr>
        <p:blipFill>
          <a:blip r:embed="rId9"/>
          <a:stretch/>
        </p:blipFill>
        <p:spPr>
          <a:xfrm>
            <a:off x="1600200" y="3962520"/>
            <a:ext cx="685800" cy="612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V="1">
            <a:off x="380880" y="46483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914400" y="47239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609480" y="4800240"/>
            <a:ext cx="1526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143000" y="441936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472428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472428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j0234489" descr=""/>
          <p:cNvPicPr/>
          <p:nvPr/>
        </p:nvPicPr>
        <p:blipFill>
          <a:blip r:embed="rId10"/>
          <a:stretch/>
        </p:blipFill>
        <p:spPr>
          <a:xfrm>
            <a:off x="6553080" y="4038480"/>
            <a:ext cx="992160" cy="793800"/>
          </a:xfrm>
          <a:prstGeom prst="rect">
            <a:avLst/>
          </a:prstGeom>
          <a:ln w="0">
            <a:noFill/>
          </a:ln>
        </p:spPr>
      </p:pic>
      <p:pic>
        <p:nvPicPr>
          <p:cNvPr id="194" name="j0222286" descr=""/>
          <p:cNvPicPr/>
          <p:nvPr/>
        </p:nvPicPr>
        <p:blipFill>
          <a:blip r:embed="rId11"/>
          <a:stretch/>
        </p:blipFill>
        <p:spPr>
          <a:xfrm>
            <a:off x="6858000" y="5562720"/>
            <a:ext cx="1254240" cy="828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791320" y="4419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86600" y="4952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010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12400" y="49528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機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55680" y="6172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ファームウェ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9240" y="5486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制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17520" y="5083200"/>
            <a:ext cx="8935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操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関数呼び出し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72400" y="4038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プログラ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27480" y="5562720"/>
            <a:ext cx="94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リモコン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ウェブ向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作り変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01760" y="5181480"/>
            <a:ext cx="114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ウェブ化するため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ウェブから制御す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プログラムを追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095880" y="49525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52520" y="44197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21440" y="4267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機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6680" y="39402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4960" y="5486400"/>
            <a:ext cx="71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たくさん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ウェ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検討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3): 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実装内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7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家電の制御プログラムに，直接ネット経由でアクセ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携帯サーバ”から，機器を直接操作す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機器操作プログラム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従来の家電のファームウェア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，ネットワーク経由で，直接アクセスできるように，プログラムを作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BS01640_" descr=""/>
          <p:cNvPicPr/>
          <p:nvPr/>
        </p:nvPicPr>
        <p:blipFill>
          <a:blip r:embed="rId1"/>
          <a:stretch/>
        </p:blipFill>
        <p:spPr>
          <a:xfrm>
            <a:off x="4952880" y="4114800"/>
            <a:ext cx="749520" cy="757080"/>
          </a:xfrm>
          <a:prstGeom prst="rect">
            <a:avLst/>
          </a:prstGeom>
          <a:ln w="0">
            <a:noFill/>
          </a:ln>
        </p:spPr>
      </p:pic>
      <p:pic>
        <p:nvPicPr>
          <p:cNvPr id="214" name="j0230668" descr=""/>
          <p:cNvPicPr/>
          <p:nvPr/>
        </p:nvPicPr>
        <p:blipFill>
          <a:blip r:embed="rId2"/>
          <a:stretch/>
        </p:blipFill>
        <p:spPr>
          <a:xfrm>
            <a:off x="8305920" y="5181480"/>
            <a:ext cx="618840" cy="1330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805640" y="3809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3733920"/>
            <a:ext cx="4419720" cy="289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3429000"/>
            <a:ext cx="25146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今回の内部構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j0222286" descr=""/>
          <p:cNvPicPr/>
          <p:nvPr/>
        </p:nvPicPr>
        <p:blipFill>
          <a:blip r:embed="rId3"/>
          <a:stretch/>
        </p:blipFill>
        <p:spPr>
          <a:xfrm>
            <a:off x="6858000" y="5562720"/>
            <a:ext cx="1254240" cy="8287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791320" y="441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4419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010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12400" y="49528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機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79240" y="5486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制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17520" y="5083200"/>
            <a:ext cx="8935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操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関数呼び出し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94120" y="5873760"/>
            <a:ext cx="153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DA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に操作プログラム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搭載</a:t>
            </a:r>
            <a:r>
              <a:rPr b="1" lang="ja-JP" sz="1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ja-JP" sz="1400" spc="-1" strike="noStrike">
                <a:solidFill>
                  <a:srgbClr val="ff0000"/>
                </a:solidFill>
                <a:latin typeface="Tahoma"/>
              </a:rPr>
              <a:t>携帯サーバ</a:t>
            </a:r>
            <a:r>
              <a:rPr b="1" lang="ja-JP" sz="1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52520" y="44197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3962520"/>
            <a:ext cx="2286000" cy="10666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BS01640_" descr=""/>
          <p:cNvPicPr/>
          <p:nvPr/>
        </p:nvPicPr>
        <p:blipFill>
          <a:blip r:embed="rId4"/>
          <a:stretch/>
        </p:blipFill>
        <p:spPr>
          <a:xfrm>
            <a:off x="152280" y="4191120"/>
            <a:ext cx="749520" cy="757080"/>
          </a:xfrm>
          <a:prstGeom prst="rect">
            <a:avLst/>
          </a:prstGeom>
          <a:ln w="0">
            <a:noFill/>
          </a:ln>
        </p:spPr>
      </p:pic>
      <p:pic>
        <p:nvPicPr>
          <p:cNvPr id="230" name="j0230668" descr=""/>
          <p:cNvPicPr/>
          <p:nvPr/>
        </p:nvPicPr>
        <p:blipFill>
          <a:blip r:embed="rId5"/>
          <a:stretch/>
        </p:blipFill>
        <p:spPr>
          <a:xfrm>
            <a:off x="3733920" y="5257800"/>
            <a:ext cx="618840" cy="1330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7320" y="3886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809880"/>
            <a:ext cx="4419720" cy="28958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3581280"/>
            <a:ext cx="2514600" cy="246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ahoma"/>
              </a:rPr>
              <a:t>従来の情報家電内部構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j0234489" descr=""/>
          <p:cNvPicPr/>
          <p:nvPr/>
        </p:nvPicPr>
        <p:blipFill>
          <a:blip r:embed="rId6"/>
          <a:stretch/>
        </p:blipFill>
        <p:spPr>
          <a:xfrm>
            <a:off x="1981080" y="4114800"/>
            <a:ext cx="992160" cy="793800"/>
          </a:xfrm>
          <a:prstGeom prst="rect">
            <a:avLst/>
          </a:prstGeom>
          <a:ln w="0">
            <a:noFill/>
          </a:ln>
        </p:spPr>
      </p:pic>
      <p:pic>
        <p:nvPicPr>
          <p:cNvPr id="235" name="j0222286" descr=""/>
          <p:cNvPicPr/>
          <p:nvPr/>
        </p:nvPicPr>
        <p:blipFill>
          <a:blip r:embed="rId7"/>
          <a:stretch/>
        </p:blipFill>
        <p:spPr>
          <a:xfrm>
            <a:off x="2286000" y="5638680"/>
            <a:ext cx="1254240" cy="828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99072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5029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40400" y="5029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機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8520" y="579132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ahoma"/>
              </a:rPr>
              <a:t>ファームウェ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07240" y="556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制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45520" y="5159520"/>
            <a:ext cx="8935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操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関数呼び出し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00400" y="4114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プログラ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99640" y="44956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3962520"/>
            <a:ext cx="2895480" cy="26668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2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59480" y="624852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ahoma"/>
              </a:rPr>
              <a:t>ファームウェ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j0234489" descr=""/>
          <p:cNvPicPr/>
          <p:nvPr/>
        </p:nvPicPr>
        <p:blipFill>
          <a:blip r:embed="rId8"/>
          <a:stretch/>
        </p:blipFill>
        <p:spPr>
          <a:xfrm>
            <a:off x="5105520" y="5105520"/>
            <a:ext cx="609480" cy="488880"/>
          </a:xfrm>
          <a:prstGeom prst="rect">
            <a:avLst/>
          </a:prstGeom>
          <a:ln w="0">
            <a:noFill/>
          </a:ln>
        </p:spPr>
      </p:pic>
      <p:pic>
        <p:nvPicPr>
          <p:cNvPr id="249" name="j0237845" descr=""/>
          <p:cNvPicPr/>
          <p:nvPr/>
        </p:nvPicPr>
        <p:blipFill>
          <a:blip r:embed="rId9"/>
          <a:stretch/>
        </p:blipFill>
        <p:spPr>
          <a:xfrm>
            <a:off x="4724280" y="5181480"/>
            <a:ext cx="762120" cy="611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477120" y="4876920"/>
            <a:ext cx="2438280" cy="16761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0280" y="5943600"/>
            <a:ext cx="6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緑線内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機器に実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88080" y="4876920"/>
            <a:ext cx="6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緑線内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機器に実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49480" y="3962520"/>
            <a:ext cx="109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変更点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: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機器制御ぷグラム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直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ネット経由で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219320" y="3962520"/>
            <a:ext cx="236196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1): 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プロトコルと言語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7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ネット経由で操作関数にアクセスするには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呼び出しの実装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プロトコル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（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xmlrpc.com/spe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を採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簡単に改造でき，自分好みにできる“携帯サーバ”を作るに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クリプト言語で作るのがよい　→　オブジェクト指向言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by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を採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j0234489" descr=""/>
          <p:cNvPicPr/>
          <p:nvPr/>
        </p:nvPicPr>
        <p:blipFill>
          <a:blip r:embed="rId2"/>
          <a:stretch/>
        </p:blipFill>
        <p:spPr>
          <a:xfrm>
            <a:off x="1447920" y="4191120"/>
            <a:ext cx="838080" cy="67284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6324480" y="4343400"/>
            <a:ext cx="2447640" cy="1676160"/>
            <a:chOff x="6324480" y="4343400"/>
            <a:chExt cx="2447640" cy="1676160"/>
          </a:xfrm>
        </p:grpSpPr>
        <p:pic>
          <p:nvPicPr>
            <p:cNvPr id="259" name="j0230668" descr=""/>
            <p:cNvPicPr/>
            <p:nvPr/>
          </p:nvPicPr>
          <p:blipFill>
            <a:blip r:embed="rId3"/>
            <a:stretch/>
          </p:blipFill>
          <p:spPr>
            <a:xfrm>
              <a:off x="8153280" y="4647960"/>
              <a:ext cx="61884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j0222286" descr=""/>
            <p:cNvPicPr/>
            <p:nvPr/>
          </p:nvPicPr>
          <p:blipFill>
            <a:blip r:embed="rId4"/>
            <a:stretch/>
          </p:blipFill>
          <p:spPr>
            <a:xfrm>
              <a:off x="6705360" y="5029200"/>
              <a:ext cx="12542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7848360" y="5257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59760" y="4419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機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2660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制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64880" y="4549680"/>
              <a:ext cx="8935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操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関数呼び出し</a:t>
              </a: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06840" y="571500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ahoma"/>
                </a:rPr>
                <a:t>ファームウェ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24480" y="4343400"/>
              <a:ext cx="2438280" cy="167616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7" name="j0234489" descr=""/>
          <p:cNvPicPr/>
          <p:nvPr/>
        </p:nvPicPr>
        <p:blipFill>
          <a:blip r:embed="rId5"/>
          <a:stretch/>
        </p:blipFill>
        <p:spPr>
          <a:xfrm>
            <a:off x="2590920" y="4191120"/>
            <a:ext cx="838080" cy="672840"/>
          </a:xfrm>
          <a:prstGeom prst="rect">
            <a:avLst/>
          </a:prstGeom>
          <a:ln w="0">
            <a:noFill/>
          </a:ln>
        </p:spPr>
      </p:pic>
      <p:pic>
        <p:nvPicPr>
          <p:cNvPr id="268" name="BD06782_" descr=""/>
          <p:cNvPicPr/>
          <p:nvPr/>
        </p:nvPicPr>
        <p:blipFill>
          <a:blip r:embed="rId6"/>
          <a:stretch/>
        </p:blipFill>
        <p:spPr>
          <a:xfrm>
            <a:off x="1447920" y="5029200"/>
            <a:ext cx="761760" cy="852480"/>
          </a:xfrm>
          <a:prstGeom prst="rect">
            <a:avLst/>
          </a:prstGeom>
          <a:ln w="0">
            <a:noFill/>
          </a:ln>
        </p:spPr>
      </p:pic>
      <p:pic>
        <p:nvPicPr>
          <p:cNvPr id="269" name="j0234489" descr=""/>
          <p:cNvPicPr/>
          <p:nvPr/>
        </p:nvPicPr>
        <p:blipFill>
          <a:blip r:embed="rId7"/>
          <a:stretch/>
        </p:blipFill>
        <p:spPr>
          <a:xfrm>
            <a:off x="2590920" y="5181480"/>
            <a:ext cx="838080" cy="673200"/>
          </a:xfrm>
          <a:prstGeom prst="rect">
            <a:avLst/>
          </a:prstGeom>
          <a:ln w="0">
            <a:noFill/>
          </a:ln>
        </p:spPr>
      </p:pic>
      <p:pic>
        <p:nvPicPr>
          <p:cNvPr id="270" name="j0078625" descr=""/>
          <p:cNvPicPr/>
          <p:nvPr/>
        </p:nvPicPr>
        <p:blipFill>
          <a:blip r:embed="rId8"/>
          <a:stretch/>
        </p:blipFill>
        <p:spPr>
          <a:xfrm flipH="1" rot="10800000">
            <a:off x="1371600" y="6081840"/>
            <a:ext cx="255600" cy="776160"/>
          </a:xfrm>
          <a:prstGeom prst="rect">
            <a:avLst/>
          </a:prstGeom>
          <a:ln w="0">
            <a:noFill/>
          </a:ln>
        </p:spPr>
      </p:pic>
      <p:pic>
        <p:nvPicPr>
          <p:cNvPr id="271" name="j0237845" descr=""/>
          <p:cNvPicPr/>
          <p:nvPr/>
        </p:nvPicPr>
        <p:blipFill>
          <a:blip r:embed="rId9"/>
          <a:stretch/>
        </p:blipFill>
        <p:spPr>
          <a:xfrm>
            <a:off x="2590920" y="6095880"/>
            <a:ext cx="761760" cy="611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337040" y="358128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携帯サーバ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DA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で動作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6477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2320" y="59436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55627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55480" y="5029200"/>
            <a:ext cx="114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関数呼び出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ML 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0352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家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8100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ドライバ･ソフ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9760" y="441972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インタフェー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プログラ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47242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429000" y="403848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BS01640_" descr=""/>
          <p:cNvPicPr/>
          <p:nvPr/>
        </p:nvPicPr>
        <p:blipFill>
          <a:blip r:embed="rId10"/>
          <a:stretch/>
        </p:blipFill>
        <p:spPr>
          <a:xfrm>
            <a:off x="3809880" y="5181480"/>
            <a:ext cx="749520" cy="7574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814920" y="48006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8600" y="4510080"/>
            <a:ext cx="236232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2):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&amp;P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とセキュリティ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726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簡単に情報家電が使えるようにするに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ug &amp; Play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が不可欠　→　ドライバソフトウェアをインストールする方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セキュリティ：赤の他人が勝手に情報家電を使えないようにす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工夫１：ドライバソフトウェアは，“家電内部に保存”→物理的に取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工夫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ドライバソフトウェアと情報家電間の通信は，“ブラックボックス化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7" name="j0234489" descr=""/>
          <p:cNvPicPr/>
          <p:nvPr/>
        </p:nvPicPr>
        <p:blipFill>
          <a:blip r:embed="rId1"/>
          <a:stretch/>
        </p:blipFill>
        <p:spPr>
          <a:xfrm>
            <a:off x="457200" y="4738680"/>
            <a:ext cx="838080" cy="67320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6696000" y="5029200"/>
            <a:ext cx="2447640" cy="1676160"/>
            <a:chOff x="6696000" y="5029200"/>
            <a:chExt cx="2447640" cy="1676160"/>
          </a:xfrm>
        </p:grpSpPr>
        <p:pic>
          <p:nvPicPr>
            <p:cNvPr id="289" name="j0230668" descr=""/>
            <p:cNvPicPr/>
            <p:nvPr/>
          </p:nvPicPr>
          <p:blipFill>
            <a:blip r:embed="rId2"/>
            <a:stretch/>
          </p:blipFill>
          <p:spPr>
            <a:xfrm>
              <a:off x="8524800" y="5333760"/>
              <a:ext cx="61884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j0222286" descr=""/>
            <p:cNvPicPr/>
            <p:nvPr/>
          </p:nvPicPr>
          <p:blipFill>
            <a:blip r:embed="rId3"/>
            <a:stretch/>
          </p:blipFill>
          <p:spPr>
            <a:xfrm>
              <a:off x="7076880" y="5715000"/>
              <a:ext cx="12542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8219880" y="5943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531280" y="51051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機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98120" y="5638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制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36400" y="5235480"/>
              <a:ext cx="8935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操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関数呼び出し</a:t>
              </a: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78360" y="640080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ahoma"/>
                </a:rPr>
                <a:t>ファームウェ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96000" y="5029200"/>
              <a:ext cx="2438280" cy="167616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7" name="j0234489" descr=""/>
          <p:cNvPicPr/>
          <p:nvPr/>
        </p:nvPicPr>
        <p:blipFill>
          <a:blip r:embed="rId4"/>
          <a:stretch/>
        </p:blipFill>
        <p:spPr>
          <a:xfrm>
            <a:off x="1600200" y="4738680"/>
            <a:ext cx="838080" cy="673200"/>
          </a:xfrm>
          <a:prstGeom prst="rect">
            <a:avLst/>
          </a:prstGeom>
          <a:ln w="0">
            <a:noFill/>
          </a:ln>
        </p:spPr>
      </p:pic>
      <p:pic>
        <p:nvPicPr>
          <p:cNvPr id="298" name="BD06782_" descr=""/>
          <p:cNvPicPr/>
          <p:nvPr/>
        </p:nvPicPr>
        <p:blipFill>
          <a:blip r:embed="rId5"/>
          <a:stretch/>
        </p:blipFill>
        <p:spPr>
          <a:xfrm>
            <a:off x="457200" y="5576760"/>
            <a:ext cx="762120" cy="852480"/>
          </a:xfrm>
          <a:prstGeom prst="rect">
            <a:avLst/>
          </a:prstGeom>
          <a:ln w="0">
            <a:noFill/>
          </a:ln>
        </p:spPr>
      </p:pic>
      <p:pic>
        <p:nvPicPr>
          <p:cNvPr id="299" name="j0234489" descr=""/>
          <p:cNvPicPr/>
          <p:nvPr/>
        </p:nvPicPr>
        <p:blipFill>
          <a:blip r:embed="rId6"/>
          <a:stretch/>
        </p:blipFill>
        <p:spPr>
          <a:xfrm>
            <a:off x="1600200" y="5729400"/>
            <a:ext cx="838080" cy="6728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22640" y="649116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携帯サーバ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DA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で動作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38280" y="6248520"/>
            <a:ext cx="456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17400" y="5715000"/>
            <a:ext cx="114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関数呼び出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ML 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75040" y="4572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家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65760" y="4114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ドライバ･ソフ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9760" y="388620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インタフェー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プログラ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280" y="44197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361960" y="472428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BS01640_" descr=""/>
          <p:cNvPicPr/>
          <p:nvPr/>
        </p:nvPicPr>
        <p:blipFill>
          <a:blip r:embed="rId7"/>
          <a:stretch/>
        </p:blipFill>
        <p:spPr>
          <a:xfrm>
            <a:off x="3048120" y="5867280"/>
            <a:ext cx="749160" cy="7574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211200" y="4903920"/>
            <a:ext cx="135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赤外線通信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r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メモリカードなど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物理的にドライバを入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HH01727_" descr=""/>
          <p:cNvPicPr/>
          <p:nvPr/>
        </p:nvPicPr>
        <p:blipFill>
          <a:blip r:embed="rId8"/>
          <a:stretch/>
        </p:blipFill>
        <p:spPr>
          <a:xfrm>
            <a:off x="3809880" y="3886200"/>
            <a:ext cx="1143000" cy="10206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 flipH="1">
            <a:off x="1295280" y="4419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j0234489" descr=""/>
          <p:cNvPicPr/>
          <p:nvPr/>
        </p:nvPicPr>
        <p:blipFill>
          <a:blip r:embed="rId9"/>
          <a:stretch/>
        </p:blipFill>
        <p:spPr>
          <a:xfrm>
            <a:off x="3124080" y="4495680"/>
            <a:ext cx="304920" cy="2444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293360" y="6276960"/>
            <a:ext cx="215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関数名，制御手順などを“非規格化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装置ごとに関数名を変更す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j0078711" descr=""/>
          <p:cNvPicPr/>
          <p:nvPr/>
        </p:nvPicPr>
        <p:blipFill>
          <a:blip r:embed="rId10"/>
          <a:stretch/>
        </p:blipFill>
        <p:spPr>
          <a:xfrm>
            <a:off x="5715000" y="3962520"/>
            <a:ext cx="652320" cy="1585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152680" y="44197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侵入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7280" y="5562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97440" y="4038480"/>
            <a:ext cx="183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通信規格”が分からないた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クラックしづら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9800" y="5638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クラッ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3): 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なぜ今回の実装形式を選んだの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8726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u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言語を使用した場合　→　ドライバのダイナミックローディングなど，結構ややこしい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スクリプト言語で構成したので，簡単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ug &amp; Play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化ができました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コス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情報家電に対応するためには　→　家電の製造コストを考えたい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ならば，最小の製造コストだろうと考察した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セキュリテ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ユーザの声）実際に情報家電に触れない人が，装置を操作できるなんて，おかしいでしょ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→　装置に触れる人だけが，ネット経由でも，操作できるようにしようよ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今回の実装は，機器呼び出し制御をおこなうプログラムを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DA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で動作している携帯サーバ内の“ドライバソフト”にした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ドライバソフト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は，規格に準拠すればよい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装置の制御手順は，“独自規格”で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ドライバソフトが“独自規格”をサポート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その他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分散オブジェクト技術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データ処理技術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Pv6,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などのネットワーク技術，セッション管理など，いろいろな技術を使っています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upppau</cp:lastModifiedBy>
  <dcterms:modified xsi:type="dcterms:W3CDTF">2003-08-31T14:43:28Z</dcterms:modified>
  <cp:revision>34</cp:revision>
  <dc:subject/>
  <dc:title>PowerPoint Presentation</dc:title>
</cp:coreProperties>
</file>