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C28-1F2A-4282-A859-45FA7E55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31D-E0E0-4CD9-A1F3-D26A442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1CE-97A9-4857-A6AA-0C81B9AA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9FC-BE59-46D8-B747-F9DE8A3C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F85-4631-4A5B-A870-C13197E3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2AE-9B2C-4CD8-941B-31B5E545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F75-5E22-40F6-96A7-F4FA4B81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8AD-69ED-4BD6-8633-B07009A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C81-680E-4BD7-81A3-D47DF08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9D55-F5C6-4168-9F4E-E1A0E150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52E9-AEC3-417D-ADC7-0A376CD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FF4-A91C-4F0D-B7D9-8D38257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3BE1-F0BE-4143-83DD-8DC6ED6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38C0-AB3B-4240-935F-81F93A77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CEEF-1C97-4D5C-B442-7629EB1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8CDA-C053-4080-AC86-F7C48282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9E1-9FB5-44D5-95E4-1235B4E9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670-02DF-4E49-B0D2-20B7275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8B2-F4B7-4A45-8F33-2EBDF1C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A50-F733-4D49-95C4-4CE3443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537-D0BC-4E63-BB3E-0BE7491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8DC-347E-40A2-9A71-5F43A98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55-D191-41FA-AE77-5D05571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58F-6DB6-43D9-87FB-7233E86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AFB5-7BAD-49F1-9EC6-E6906CA4C398}" type="slidenum">
              <a:rPr b="0" lang="ja-JP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BEA4-801B-493D-84B0-8D673B29E52B}" type="slidenum">
              <a:rPr b="0" lang="ja-JP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IPv6</a:t>
            </a:r>
            <a:r>
              <a:rPr b="1" lang="ja-JP" sz="20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スタートアップキット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85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ahoma"/>
              </a:rPr>
              <a:t>Concep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ひさぽんもどき1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2389320" cy="207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576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開発のきっかけ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523880"/>
            <a:ext cx="47246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には興味があるけど、どうやったら使えるようになるのかが分かりにくい。情報もあちこちに分散していて良く分からない。私自身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200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に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インストールするのに時間がかかり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E6.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は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対応でないと言う事を知るのにも時間がかかった。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はまず始める所でつまづく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と、言うわけで・・・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普及させるにはもっと手軽に体験出来るようにしなくては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20040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スクリプトランナー「ぷとん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5053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そこで開発したのがスクリプトランナー「ぷとん」です。「ぷとん」は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HTTP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サーバー・クライアント機能を持ったスクリプト実行プログラムで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429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ます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入れるのが難しい…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2670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5b5249"/>
                </a:solidFill>
                <a:latin typeface="HG丸ｺﾞｼｯｸM-PRO"/>
                <a:ea typeface="HG丸ｺﾞｼｯｸM-PRO"/>
              </a:rPr>
              <a:t>何が出来るの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4572000"/>
            <a:ext cx="4724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2000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と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Windows XP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インストールを手助けするスクリプトと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を使ったネットワークをすぐに体験出来るようネットワークを使ったサンプルスクリプトが含まれています。これで、一番大事な「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への第一歩」を踏み出す事が出来ま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インストール後も自分でスクリプトを組む事により、</a:t>
            </a:r>
            <a:r>
              <a:rPr b="0" lang="en-US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IPv6</a:t>
            </a:r>
            <a:r>
              <a:rPr b="0" lang="ja-JP" sz="1200" spc="-1" strike="noStrike">
                <a:solidFill>
                  <a:srgbClr val="5b5249"/>
                </a:solidFill>
                <a:latin typeface="Tahoma"/>
                <a:ea typeface="HG丸ｺﾞｼｯｸM-PRO"/>
              </a:rPr>
              <a:t>のネットワークを利用した便利なユーティリティとして使う事が出来ます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14:25:21Z</dcterms:created>
  <dc:creator>ねふぁ</dc:creator>
  <dc:description/>
  <dc:language>en-US</dc:language>
  <cp:lastModifiedBy>ねふぁ</cp:lastModifiedBy>
  <dcterms:modified xsi:type="dcterms:W3CDTF">2003-08-30T15:10:46Z</dcterms:modified>
  <cp:revision>4</cp:revision>
  <dc:subject/>
  <dc:title>PowerPoint プレゼンテーション</dc:title>
</cp:coreProperties>
</file>