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8050-0742-453B-B7E1-B24D2CC92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4D6C-E2C5-4282-ADDA-E14A62DB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4FAF-AE9E-4D2C-8C70-033166BAC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3EFF-9EA0-4A87-8ED6-9AB0DF260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488A-DB6A-418F-94CE-1CAA41725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B5ED-7363-4615-AC19-D22858DA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E47D-3064-4B74-A0DF-2274B59B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6753-996F-4E43-98ED-7479383F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452A-6CB2-42F0-B023-0EBF6DA9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390C-F277-460B-88B3-FE25A667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6916-5CE2-4F0F-9B1E-3F4A70E0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2BD3-B67B-4281-9CF9-3752BB4C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A73F-5A92-4E48-8470-9D8FFEFD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ADDE-89D7-4C08-8E57-9172412D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CFD86-E357-4118-873C-4C57A15E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75D2-113C-432A-A4BC-DC42AB743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D90D-2AD2-4EE1-8863-960483D25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C064-5DBA-4A3C-95FF-3B6ABD56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522F-D26F-42F5-88DE-54159A94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42C5-B2F3-45DE-8095-20A8BD46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CB97-D91A-4F40-9745-E971483D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00CE-99C0-4504-9376-328F481B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C81C-2488-4AB1-A8AA-F0C88B41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5D82-66D2-465B-BE75-AF4A8109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4982-3D04-4B5B-87A3-44E9EE9F9BD8}" type="slidenum">
              <a:rPr b="0" lang="ja-JP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616F-42DF-4A60-BE69-4039FFF82AFB}" type="slidenum">
              <a:rPr b="0" lang="ja-JP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2286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HG丸ｺﾞｼｯｸM-PRO"/>
                <a:ea typeface="HG丸ｺﾞｼｯｸM-PRO"/>
              </a:rPr>
              <a:t>IPv6</a:t>
            </a:r>
            <a:r>
              <a:rPr b="1" lang="ja-JP" sz="2000" spc="-1" strike="noStrike">
                <a:solidFill>
                  <a:srgbClr val="5b5249"/>
                </a:solidFill>
                <a:latin typeface="HG丸ｺﾞｼｯｸM-PRO"/>
                <a:ea typeface="HG丸ｺﾞｼｯｸM-PRO"/>
              </a:rPr>
              <a:t>スタートアップキット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43800" y="6858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ahoma"/>
              </a:rPr>
              <a:t>Concep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2" name="ひさぽんもどき1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2389320" cy="2071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657600" y="121932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5b5249"/>
                </a:solidFill>
                <a:latin typeface="HG丸ｺﾞｼｯｸM-PRO"/>
                <a:ea typeface="HG丸ｺﾞｼｯｸM-PRO"/>
              </a:rPr>
              <a:t>開発のきっかけ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1523880"/>
            <a:ext cx="472464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IPv6</a:t>
            </a:r>
            <a:r>
              <a:rPr b="0" lang="ja-JP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には興味があるけど、どうやったら使えるようになるのかが分かりにくい。情報もあちこちに分散していて良く分からない。私自身、</a:t>
            </a:r>
            <a:r>
              <a:rPr b="0" lang="en-US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Windows 2000</a:t>
            </a:r>
            <a:r>
              <a:rPr b="0" lang="ja-JP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に</a:t>
            </a:r>
            <a:r>
              <a:rPr b="0" lang="en-US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IPv6</a:t>
            </a:r>
            <a:r>
              <a:rPr b="0" lang="ja-JP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をインストールするのに時間がかかり、</a:t>
            </a:r>
            <a:r>
              <a:rPr b="0" lang="en-US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IE6.0</a:t>
            </a:r>
            <a:r>
              <a:rPr b="0" lang="ja-JP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は</a:t>
            </a:r>
            <a:r>
              <a:rPr b="0" lang="en-US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IPv6</a:t>
            </a:r>
            <a:r>
              <a:rPr b="0" lang="ja-JP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対応でないと言う事を知るのにも時間がかかった。</a:t>
            </a:r>
            <a:r>
              <a:rPr b="0" lang="en-US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IPv6</a:t>
            </a:r>
            <a:r>
              <a:rPr b="0" lang="ja-JP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はまず始める所でつまづく！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と、言うわけで・・・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IPv6</a:t>
            </a:r>
            <a:r>
              <a:rPr b="0" lang="ja-JP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を普及させるにはもっと手軽に体験出来るようにしなくては！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57600" y="320040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5b5249"/>
                </a:solidFill>
                <a:latin typeface="HG丸ｺﾞｼｯｸM-PRO"/>
                <a:ea typeface="HG丸ｺﾞｼｯｸM-PRO"/>
              </a:rPr>
              <a:t>スクリプトランナー「ぷとん」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38480" y="3505320"/>
            <a:ext cx="47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そこで開発したのがスクリプトランナー「ぷとん」です。「ぷとん」は</a:t>
            </a:r>
            <a:r>
              <a:rPr b="0" lang="en-US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IPv6</a:t>
            </a:r>
            <a:r>
              <a:rPr b="0" lang="ja-JP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の</a:t>
            </a:r>
            <a:r>
              <a:rPr b="0" lang="en-US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HTTP</a:t>
            </a:r>
            <a:r>
              <a:rPr b="0" lang="ja-JP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サーバー・クライアント機能を持ったスクリプト実行プログラムです。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342900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ます</a:t>
            </a:r>
            <a:r>
              <a:rPr b="0" lang="en-US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IPv6</a:t>
            </a:r>
            <a:r>
              <a:rPr b="0" lang="ja-JP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を入れるのが難しい…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426708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5b5249"/>
                </a:solidFill>
                <a:latin typeface="HG丸ｺﾞｼｯｸM-PRO"/>
                <a:ea typeface="HG丸ｺﾞｼｯｸM-PRO"/>
              </a:rPr>
              <a:t>何が出来るの？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4572000"/>
            <a:ext cx="47242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Windows 2000</a:t>
            </a:r>
            <a:r>
              <a:rPr b="0" lang="ja-JP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と</a:t>
            </a:r>
            <a:r>
              <a:rPr b="0" lang="en-US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Windows XP</a:t>
            </a:r>
            <a:r>
              <a:rPr b="0" lang="ja-JP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の</a:t>
            </a:r>
            <a:r>
              <a:rPr b="0" lang="en-US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IPv6</a:t>
            </a:r>
            <a:r>
              <a:rPr b="0" lang="ja-JP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インストールを手助けするスクリプトと</a:t>
            </a:r>
            <a:r>
              <a:rPr b="0" lang="en-US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IPv6</a:t>
            </a:r>
            <a:r>
              <a:rPr b="0" lang="ja-JP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を使ったネットワークをすぐに体験出来るようネットワークを使ったサンプルスクリプトが含まれています。これで、一番大事な「</a:t>
            </a:r>
            <a:r>
              <a:rPr b="0" lang="en-US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IPv6</a:t>
            </a:r>
            <a:r>
              <a:rPr b="0" lang="ja-JP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への第一歩」を踏み出す事が出来ます。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インストール後も自分でスクリプトを組む事により、</a:t>
            </a:r>
            <a:r>
              <a:rPr b="0" lang="en-US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IPv6</a:t>
            </a:r>
            <a:r>
              <a:rPr b="0" lang="ja-JP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のネットワークを利用した便利なユーティリティとして使う事が出来ます。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0T14:25:21Z</dcterms:created>
  <dc:creator>ねふぁ</dc:creator>
  <dc:description/>
  <dc:language>en-US</dc:language>
  <cp:lastModifiedBy>ねふぁ</cp:lastModifiedBy>
  <dcterms:modified xsi:type="dcterms:W3CDTF">2003-08-30T15:10:46Z</dcterms:modified>
  <cp:revision>4</cp:revision>
  <dc:subject/>
  <dc:title>PowerPoint プレゼンテーション</dc:title>
</cp:coreProperties>
</file>