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15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9.wmf" ContentType="image/x-wmf"/>
  <Override PartName="/ppt/media/image1.wmf" ContentType="image/x-wmf"/>
  <Override PartName="/ppt/media/image10.wmf" ContentType="image/x-wmf"/>
  <Override PartName="/ppt/media/image2.png" ContentType="image/png"/>
  <Override PartName="/ppt/media/image18.wmf" ContentType="image/x-wmf"/>
  <Override PartName="/ppt/media/image17.wmf" ContentType="image/x-wmf"/>
  <Override PartName="/ppt/media/image16.wmf" ContentType="image/x-wmf"/>
  <Override PartName="/ppt/media/image6.png" ContentType="image/png"/>
  <Override PartName="/ppt/media/image1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68DD-260B-498A-A3F3-C12CCAF14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B82C-A044-4C97-A787-7F7B012EF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1FB1-4CA8-4060-B213-832AC2281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E5F1-F0C9-4AA3-A817-4A2A05286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A50C4-6224-46F4-8E34-A0691C779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1391E-F535-4208-B00C-0F1CF0A3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BA763-55E2-4AA1-B09D-520D3B302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A86D5-18D8-4B8E-8B07-70A2BE652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3930B-E1EC-469A-81FC-EB3824041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E3C51-2627-4DA6-8A0B-D3F388172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572A8-5286-44E9-9A11-13B14E84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0F7F-7C29-4D68-954A-C361BC7DD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5D90D-E478-4081-8C7B-F09E87AE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7C807-891E-41BC-AD51-F26F03AB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EC588-D7B3-4BD6-8F53-5A9C7233A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DBEA9-A3D3-4ADE-A7EB-F630DA257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3270C-97DE-4077-9FB1-B511BB31E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2925-B9C1-43A8-8174-704464C8D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D417-915B-4795-A09E-3ADD4FCE5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1E23-7E69-4477-AF6E-9A9AA9DAD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C4CB-75DF-4ACA-BBC8-9D06918BD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EB9D-47E7-4B8E-AA18-2094B7D6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2648-AE07-4439-A93D-80010DBC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7C7C-8E86-4217-A3DF-81EE6537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D9053-93AE-4CD4-A75D-7EF928A887E4}" type="slidenum">
              <a:rPr b="0" lang="ja-JP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5006F-A1D7-4F25-8A3E-742832B1A6F4}" type="slidenum">
              <a:rPr b="0" lang="ja-JP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2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9.wmf"/><Relationship Id="rId7" Type="http://schemas.openxmlformats.org/officeDocument/2006/relationships/image" Target="../media/image9.wmf"/><Relationship Id="rId8" Type="http://schemas.openxmlformats.org/officeDocument/2006/relationships/image" Target="../media/image13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4.wmf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0.wmf"/><Relationship Id="rId3" Type="http://schemas.openxmlformats.org/officeDocument/2006/relationships/image" Target="../media/image14.wmf"/><Relationship Id="rId4" Type="http://schemas.openxmlformats.org/officeDocument/2006/relationships/image" Target="../media/image13.wmf"/><Relationship Id="rId5" Type="http://schemas.openxmlformats.org/officeDocument/2006/relationships/image" Target="../media/image15.wmf"/><Relationship Id="rId6" Type="http://schemas.openxmlformats.org/officeDocument/2006/relationships/image" Target="../media/image8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image" Target="../media/image16.wmf"/><Relationship Id="rId11" Type="http://schemas.openxmlformats.org/officeDocument/2006/relationships/image" Target="../media/image17.wmf"/><Relationship Id="rId1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0.wmf"/><Relationship Id="rId3" Type="http://schemas.openxmlformats.org/officeDocument/2006/relationships/image" Target="../media/image17.wmf"/><Relationship Id="rId4" Type="http://schemas.openxmlformats.org/officeDocument/2006/relationships/image" Target="../media/image13.wmf"/><Relationship Id="rId5" Type="http://schemas.openxmlformats.org/officeDocument/2006/relationships/image" Target="../media/image10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6.wmf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xmlrpc.com/spec" TargetMode="External"/><Relationship Id="rId2" Type="http://schemas.openxmlformats.org/officeDocument/2006/relationships/image" Target="../media/image16.wmf"/><Relationship Id="rId3" Type="http://schemas.openxmlformats.org/officeDocument/2006/relationships/image" Target="../media/image10.wmf"/><Relationship Id="rId4" Type="http://schemas.openxmlformats.org/officeDocument/2006/relationships/image" Target="../media/image17.wmf"/><Relationship Id="rId5" Type="http://schemas.openxmlformats.org/officeDocument/2006/relationships/image" Target="../media/image16.wmf"/><Relationship Id="rId6" Type="http://schemas.openxmlformats.org/officeDocument/2006/relationships/image" Target="../media/image18.wmf"/><Relationship Id="rId7" Type="http://schemas.openxmlformats.org/officeDocument/2006/relationships/image" Target="../media/image16.wmf"/><Relationship Id="rId8" Type="http://schemas.openxmlformats.org/officeDocument/2006/relationships/image" Target="../media/image14.wmf"/><Relationship Id="rId9" Type="http://schemas.openxmlformats.org/officeDocument/2006/relationships/image" Target="../media/image8.wmf"/><Relationship Id="rId10" Type="http://schemas.openxmlformats.org/officeDocument/2006/relationships/image" Target="../media/image13.wmf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0.wmf"/><Relationship Id="rId3" Type="http://schemas.openxmlformats.org/officeDocument/2006/relationships/image" Target="../media/image17.wmf"/><Relationship Id="rId4" Type="http://schemas.openxmlformats.org/officeDocument/2006/relationships/image" Target="../media/image16.wmf"/><Relationship Id="rId5" Type="http://schemas.openxmlformats.org/officeDocument/2006/relationships/image" Target="../media/image18.wmf"/><Relationship Id="rId6" Type="http://schemas.openxmlformats.org/officeDocument/2006/relationships/image" Target="../media/image16.wmf"/><Relationship Id="rId7" Type="http://schemas.openxmlformats.org/officeDocument/2006/relationships/image" Target="../media/image13.wmf"/><Relationship Id="rId8" Type="http://schemas.openxmlformats.org/officeDocument/2006/relationships/image" Target="../media/image12.wmf"/><Relationship Id="rId9" Type="http://schemas.openxmlformats.org/officeDocument/2006/relationships/image" Target="../media/image16.wmf"/><Relationship Id="rId10" Type="http://schemas.openxmlformats.org/officeDocument/2006/relationships/image" Target="../media/image19.wmf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家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 ZAURUS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の開発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76520" y="34290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2003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年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月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応募者：上原　昭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応募番号：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106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4575240"/>
            <a:ext cx="647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目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家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ZAURUS”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開発背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家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ZAURUS”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とは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家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ZAURUS”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稼動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実装した範囲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8726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-2160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携帯サーバ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68000" indent="-1800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UI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インタフェースにウェブを使用：　ウェブのセッション管理を実装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68000" indent="-1800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ドライバソフト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ug &amp; Play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機能：　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uby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のソースコードに直接手書きして実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68000" indent="-1800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ドライバソフト：　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ML RPC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のクライアント･ソフトとして実装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6000" indent="-2160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情報家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68000" indent="-1800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仮想的な情報家電を，サンプルプログラムとして提供した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68000" indent="-1800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ML RPC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のサーバとして動作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6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6000" indent="-2160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今後の実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68000" indent="-1800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情報家電コンセント（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S6, IPv6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普及・高度化推進協議会　様より提供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に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ML RPC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サーバを搭載し，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S6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を制御可能とす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68000" indent="-1800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S6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向け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ML RPC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サーバは，フリーソフトとして提供されている．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68000" indent="-1800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あとは，“自分向け”プログラムを書くだけで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68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68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52280" y="2057400"/>
            <a:ext cx="7010640" cy="4114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3333cc"/>
                </a:solidFill>
                <a:latin typeface="Tahoma"/>
              </a:rPr>
              <a:t>アプリケーション構築例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43000" y="76201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6" name="livingscreen" descr=""/>
          <p:cNvPicPr/>
          <p:nvPr/>
        </p:nvPicPr>
        <p:blipFill>
          <a:blip r:embed="rId1"/>
          <a:stretch/>
        </p:blipFill>
        <p:spPr>
          <a:xfrm>
            <a:off x="3124080" y="4419720"/>
            <a:ext cx="2514600" cy="1681200"/>
          </a:xfrm>
          <a:prstGeom prst="rect">
            <a:avLst/>
          </a:prstGeom>
          <a:ln w="0">
            <a:noFill/>
          </a:ln>
        </p:spPr>
      </p:pic>
      <p:pic>
        <p:nvPicPr>
          <p:cNvPr id="327" name="homescreen" descr=""/>
          <p:cNvPicPr/>
          <p:nvPr/>
        </p:nvPicPr>
        <p:blipFill>
          <a:blip r:embed="rId2"/>
          <a:stretch/>
        </p:blipFill>
        <p:spPr>
          <a:xfrm>
            <a:off x="228600" y="22096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328" name="server_log" descr=""/>
          <p:cNvPicPr/>
          <p:nvPr/>
        </p:nvPicPr>
        <p:blipFill>
          <a:blip r:embed="rId3"/>
          <a:stretch/>
        </p:blipFill>
        <p:spPr>
          <a:xfrm>
            <a:off x="7315200" y="1905120"/>
            <a:ext cx="1638360" cy="1143000"/>
          </a:xfrm>
          <a:prstGeom prst="rect">
            <a:avLst/>
          </a:prstGeom>
          <a:ln w="0">
            <a:noFill/>
          </a:ln>
        </p:spPr>
      </p:pic>
      <p:pic>
        <p:nvPicPr>
          <p:cNvPr id="329" name="entrancescreen" descr=""/>
          <p:cNvPicPr/>
          <p:nvPr/>
        </p:nvPicPr>
        <p:blipFill>
          <a:blip r:embed="rId4"/>
          <a:stretch/>
        </p:blipFill>
        <p:spPr>
          <a:xfrm>
            <a:off x="228600" y="4343400"/>
            <a:ext cx="2629080" cy="17589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4343400" y="2286000"/>
            <a:ext cx="266688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ドライバソフトウェ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514600" y="2286000"/>
            <a:ext cx="1600200" cy="1066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セッション管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server_log" descr=""/>
          <p:cNvPicPr/>
          <p:nvPr/>
        </p:nvPicPr>
        <p:blipFill>
          <a:blip r:embed="rId5"/>
          <a:stretch/>
        </p:blipFill>
        <p:spPr>
          <a:xfrm>
            <a:off x="7315200" y="4419720"/>
            <a:ext cx="1638360" cy="11430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4343400" y="2895480"/>
            <a:ext cx="266688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ドライバソフトウェ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11480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148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010280" y="2514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010280" y="3048120"/>
            <a:ext cx="38124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448040" y="5562720"/>
            <a:ext cx="14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情報家電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サーバ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228564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2438280" y="335268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200400" y="342900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632040" y="3733920"/>
            <a:ext cx="7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210440" y="358128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PC 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9560" y="60958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携帯サー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353920" y="3429000"/>
            <a:ext cx="1400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ドライバ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追加で新し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機器が操作可能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 flipV="1">
            <a:off x="4876560" y="335232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26360" y="6156360"/>
            <a:ext cx="2893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UI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は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TML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で構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プラットフォームに依存しない実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 flipV="1">
            <a:off x="4800240" y="609552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はじめに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不便だぞ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!!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家電コンセント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-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8116920" cy="14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marL="116640" indent="-1166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p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ｖ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家電コンセントを導入した　→携帯で家電が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/Off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できる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!!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便利だぞ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!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16640" indent="-116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はじめは→携帯からコンセントを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/Off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できて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</a:rPr>
              <a:t>便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16640" indent="-1166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そのうち→</a:t>
            </a:r>
            <a:r>
              <a:rPr b="1" lang="ja-JP" sz="2000" spc="-1" strike="noStrike">
                <a:solidFill>
                  <a:srgbClr val="ff0000"/>
                </a:solidFill>
                <a:latin typeface="Tahoma"/>
              </a:rPr>
              <a:t>不満爆発．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家のコンセントを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/Off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するのに，いったいいくつのリンクをたどればいいの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?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　お風呂を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したら，エアコンを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分後に“自動で”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して欲しいのに．．．自分で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しないとだめなの？　たくさんコンセントがあるけど，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アドレスが違うから，いちいち１つづつアクセスしないとだめなんて不便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16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16640" indent="-1166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解決策　→　お家にサーバーを置いて，サーバで一括制御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16640" indent="-1166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サーバーにアクセスするだけで家の家電が制御できるようにした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16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16640" indent="-1166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これでも不満が出る　→離れたところにある家とオフィス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HO)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を管理するのに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場所ごとにいちいちサーバー置かないとダメなんて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!!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　一括管理できないの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16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16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そんなこといわれたって．．．どうすりゃいいの．．．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16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サーバが“場所”に固定されてるのが悪いんだ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16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16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PE01460_" descr=""/>
          <p:cNvPicPr/>
          <p:nvPr/>
        </p:nvPicPr>
        <p:blipFill>
          <a:blip r:embed="rId1"/>
          <a:stretch/>
        </p:blipFill>
        <p:spPr>
          <a:xfrm>
            <a:off x="8285040" y="5410080"/>
            <a:ext cx="858960" cy="1067040"/>
          </a:xfrm>
          <a:prstGeom prst="rect">
            <a:avLst/>
          </a:prstGeom>
          <a:ln w="0">
            <a:noFill/>
          </a:ln>
        </p:spPr>
      </p:pic>
      <p:sp>
        <p:nvSpPr>
          <p:cNvPr id="105" name="Homepage"/>
          <p:cNvSpPr/>
          <p:nvPr/>
        </p:nvSpPr>
        <p:spPr>
          <a:xfrm>
            <a:off x="7238880" y="5715000"/>
            <a:ext cx="533520" cy="657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Webpage"/>
          <p:cNvSpPr/>
          <p:nvPr/>
        </p:nvSpPr>
        <p:spPr>
          <a:xfrm>
            <a:off x="6324480" y="5410080"/>
            <a:ext cx="685800" cy="8953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10280" y="5867280"/>
            <a:ext cx="3049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924680" y="6172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75080" y="6400800"/>
            <a:ext cx="30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うち“までウェブをたどるの面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352680" y="4724280"/>
            <a:ext cx="1600200" cy="1143000"/>
          </a:xfrm>
          <a:prstGeom prst="rect">
            <a:avLst/>
          </a:prstGeom>
          <a:noFill/>
          <a:ln w="93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提案内容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俺はこれが欲しいんだ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-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80010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 u="sng">
                <a:solidFill>
                  <a:srgbClr val="3333cc"/>
                </a:solidFill>
                <a:uFillTx/>
                <a:latin typeface="Tahoma"/>
              </a:rPr>
              <a:t>制御する“場所“にサーバを置かなくてもいいじゃない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ahoma"/>
              </a:rPr>
              <a:t>“</a:t>
            </a:r>
            <a:r>
              <a:rPr b="1" lang="ja-JP" sz="2400" spc="-1" strike="noStrike" u="sng">
                <a:solidFill>
                  <a:srgbClr val="3333cc"/>
                </a:solidFill>
                <a:uFillTx/>
                <a:latin typeface="Tahoma"/>
              </a:rPr>
              <a:t>携帯”サーバー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で行こう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サーバーを持ち歩くと，こんなに便利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リアルタイム：画面を見れば，即自に家電の状態が把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即時性：いちいちネットにアクセスしなくても即時制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統一性：オフィスだろうが家だろうが場所に寄らず即制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BD04862_(p)" descr="クリックでダウンロード"/>
          <p:cNvPicPr/>
          <p:nvPr/>
        </p:nvPicPr>
        <p:blipFill>
          <a:blip r:embed="rId1"/>
          <a:stretch/>
        </p:blipFill>
        <p:spPr>
          <a:xfrm>
            <a:off x="457200" y="565452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14" name="j0202496(p)" descr="クリックでダウンロード"/>
          <p:cNvPicPr/>
          <p:nvPr/>
        </p:nvPicPr>
        <p:blipFill>
          <a:blip r:embed="rId2"/>
          <a:stretch/>
        </p:blipFill>
        <p:spPr>
          <a:xfrm>
            <a:off x="228600" y="41148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15" name="j0205620(p)" descr="クリックでダウンロード"/>
          <p:cNvPicPr/>
          <p:nvPr/>
        </p:nvPicPr>
        <p:blipFill>
          <a:blip r:embed="rId3"/>
          <a:stretch/>
        </p:blipFill>
        <p:spPr>
          <a:xfrm flipH="1">
            <a:off x="3733560" y="4876920"/>
            <a:ext cx="896760" cy="990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 flipV="1">
            <a:off x="1447920" y="5790960"/>
            <a:ext cx="1752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1219320" y="449532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17120" y="53341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家の家電の状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890000" y="63244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家電を制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23520" y="6095880"/>
            <a:ext cx="17528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19320" y="4800600"/>
            <a:ext cx="19047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5160" y="495288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自分のオフィスの家電の状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18600" y="41911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家電を制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86600" y="5867280"/>
            <a:ext cx="15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ffcf01"/>
                </a:solidFill>
                <a:uFillTx/>
                <a:latin typeface="Tahoma"/>
              </a:rPr>
              <a:t>“</a:t>
            </a:r>
            <a:r>
              <a:rPr b="0" lang="ja-JP" sz="2400" spc="-1" strike="noStrike" u="sng">
                <a:solidFill>
                  <a:srgbClr val="ffcf01"/>
                </a:solidFill>
                <a:uFillTx/>
                <a:latin typeface="Tahoma"/>
              </a:rPr>
              <a:t>携帯”サーバ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48520" y="4191120"/>
            <a:ext cx="2361960" cy="2133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21960" y="41911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表示画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43400" y="51055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j0230304(p)" descr="クリックでダウンロード"/>
          <p:cNvPicPr/>
          <p:nvPr/>
        </p:nvPicPr>
        <p:blipFill>
          <a:blip r:embed="rId4"/>
          <a:stretch/>
        </p:blipFill>
        <p:spPr>
          <a:xfrm>
            <a:off x="7620120" y="4343400"/>
            <a:ext cx="807840" cy="808200"/>
          </a:xfrm>
          <a:prstGeom prst="rect">
            <a:avLst/>
          </a:prstGeom>
          <a:ln w="0">
            <a:noFill/>
          </a:ln>
        </p:spPr>
      </p:pic>
      <p:pic>
        <p:nvPicPr>
          <p:cNvPr id="129" name="j0230303(p)" descr="クリックでダウンロード"/>
          <p:cNvPicPr/>
          <p:nvPr/>
        </p:nvPicPr>
        <p:blipFill>
          <a:blip r:embed="rId5"/>
          <a:stretch/>
        </p:blipFill>
        <p:spPr>
          <a:xfrm>
            <a:off x="6477120" y="438948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130" name="BD04862_(p)" descr="クリックでダウンロード"/>
          <p:cNvPicPr/>
          <p:nvPr/>
        </p:nvPicPr>
        <p:blipFill>
          <a:blip r:embed="rId6"/>
          <a:stretch/>
        </p:blipFill>
        <p:spPr>
          <a:xfrm>
            <a:off x="6400800" y="52578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31" name="j0089999(p)" descr="クリックでダウンロード"/>
          <p:cNvPicPr/>
          <p:nvPr/>
        </p:nvPicPr>
        <p:blipFill>
          <a:blip r:embed="rId7"/>
          <a:stretch/>
        </p:blipFill>
        <p:spPr>
          <a:xfrm>
            <a:off x="7543800" y="5257800"/>
            <a:ext cx="884160" cy="8841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793560" y="652140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全ての情報が手の中に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携帯サーバ”の実装検討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(1): 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要求は何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2017800"/>
            <a:ext cx="872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ユーザーの立場から，情報家電をどう使いたいかを分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ネットワーク上の“自分の所有している”機器を操作した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要求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自分の所有している情報家電を操作する“万能リモコン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j0237845" descr=""/>
          <p:cNvPicPr/>
          <p:nvPr/>
        </p:nvPicPr>
        <p:blipFill>
          <a:blip r:embed="rId1"/>
          <a:stretch/>
        </p:blipFill>
        <p:spPr>
          <a:xfrm>
            <a:off x="4800600" y="5943600"/>
            <a:ext cx="762120" cy="611280"/>
          </a:xfrm>
          <a:prstGeom prst="rect">
            <a:avLst/>
          </a:prstGeom>
          <a:ln w="0">
            <a:noFill/>
          </a:ln>
        </p:spPr>
      </p:pic>
      <p:pic>
        <p:nvPicPr>
          <p:cNvPr id="136" name="HH01683_" descr=""/>
          <p:cNvPicPr/>
          <p:nvPr/>
        </p:nvPicPr>
        <p:blipFill>
          <a:blip r:embed="rId2"/>
          <a:stretch/>
        </p:blipFill>
        <p:spPr>
          <a:xfrm flipH="1">
            <a:off x="457200" y="4987800"/>
            <a:ext cx="528480" cy="534960"/>
          </a:xfrm>
          <a:prstGeom prst="rect">
            <a:avLst/>
          </a:prstGeom>
          <a:ln w="0">
            <a:noFill/>
          </a:ln>
        </p:spPr>
      </p:pic>
      <p:pic>
        <p:nvPicPr>
          <p:cNvPr id="137" name="j0230668" descr=""/>
          <p:cNvPicPr/>
          <p:nvPr/>
        </p:nvPicPr>
        <p:blipFill>
          <a:blip r:embed="rId3"/>
          <a:stretch/>
        </p:blipFill>
        <p:spPr>
          <a:xfrm>
            <a:off x="2057400" y="5334120"/>
            <a:ext cx="619200" cy="1330200"/>
          </a:xfrm>
          <a:prstGeom prst="rect">
            <a:avLst/>
          </a:prstGeom>
          <a:ln w="0">
            <a:noFill/>
          </a:ln>
        </p:spPr>
      </p:pic>
      <p:pic>
        <p:nvPicPr>
          <p:cNvPr id="138" name="j0212551" descr=""/>
          <p:cNvPicPr/>
          <p:nvPr/>
        </p:nvPicPr>
        <p:blipFill>
          <a:blip r:embed="rId4"/>
          <a:stretch/>
        </p:blipFill>
        <p:spPr>
          <a:xfrm>
            <a:off x="1295280" y="4606920"/>
            <a:ext cx="739800" cy="906480"/>
          </a:xfrm>
          <a:prstGeom prst="rect">
            <a:avLst/>
          </a:prstGeom>
          <a:ln w="0">
            <a:noFill/>
          </a:ln>
        </p:spPr>
      </p:pic>
      <p:pic>
        <p:nvPicPr>
          <p:cNvPr id="139" name="HH01727_" descr=""/>
          <p:cNvPicPr/>
          <p:nvPr/>
        </p:nvPicPr>
        <p:blipFill>
          <a:blip r:embed="rId5"/>
          <a:stretch/>
        </p:blipFill>
        <p:spPr>
          <a:xfrm>
            <a:off x="228600" y="3997440"/>
            <a:ext cx="1066680" cy="952560"/>
          </a:xfrm>
          <a:prstGeom prst="rect">
            <a:avLst/>
          </a:prstGeom>
          <a:ln w="0">
            <a:noFill/>
          </a:ln>
        </p:spPr>
      </p:pic>
      <p:pic>
        <p:nvPicPr>
          <p:cNvPr id="140" name="HH01683_" descr=""/>
          <p:cNvPicPr/>
          <p:nvPr/>
        </p:nvPicPr>
        <p:blipFill>
          <a:blip r:embed="rId6"/>
          <a:stretch/>
        </p:blipFill>
        <p:spPr>
          <a:xfrm flipH="1">
            <a:off x="380520" y="5445000"/>
            <a:ext cx="528840" cy="534960"/>
          </a:xfrm>
          <a:prstGeom prst="rect">
            <a:avLst/>
          </a:prstGeom>
          <a:ln w="0">
            <a:noFill/>
          </a:ln>
        </p:spPr>
      </p:pic>
      <p:pic>
        <p:nvPicPr>
          <p:cNvPr id="141" name="HH01683_" descr=""/>
          <p:cNvPicPr/>
          <p:nvPr/>
        </p:nvPicPr>
        <p:blipFill>
          <a:blip r:embed="rId7"/>
          <a:stretch/>
        </p:blipFill>
        <p:spPr>
          <a:xfrm flipH="1">
            <a:off x="837720" y="5902200"/>
            <a:ext cx="528840" cy="5349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 flipV="1">
            <a:off x="762120" y="4911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838080" y="544464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5902200"/>
            <a:ext cx="9144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2280" y="3809880"/>
            <a:ext cx="2971800" cy="289584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3429000"/>
            <a:ext cx="24382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ネットワーク化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BS01640_" descr=""/>
          <p:cNvPicPr/>
          <p:nvPr/>
        </p:nvPicPr>
        <p:blipFill>
          <a:blip r:embed="rId8"/>
          <a:stretch/>
        </p:blipFill>
        <p:spPr>
          <a:xfrm>
            <a:off x="6172200" y="5029200"/>
            <a:ext cx="749160" cy="757080"/>
          </a:xfrm>
          <a:prstGeom prst="rect">
            <a:avLst/>
          </a:prstGeom>
          <a:ln w="0">
            <a:noFill/>
          </a:ln>
        </p:spPr>
      </p:pic>
      <p:pic>
        <p:nvPicPr>
          <p:cNvPr id="148" name="j0230668" descr=""/>
          <p:cNvPicPr/>
          <p:nvPr/>
        </p:nvPicPr>
        <p:blipFill>
          <a:blip r:embed="rId9"/>
          <a:stretch/>
        </p:blipFill>
        <p:spPr>
          <a:xfrm>
            <a:off x="8001000" y="5029200"/>
            <a:ext cx="619200" cy="1330200"/>
          </a:xfrm>
          <a:prstGeom prst="rect">
            <a:avLst/>
          </a:prstGeom>
          <a:ln w="0">
            <a:noFill/>
          </a:ln>
        </p:spPr>
      </p:pic>
      <p:pic>
        <p:nvPicPr>
          <p:cNvPr id="149" name="j0212551" descr=""/>
          <p:cNvPicPr/>
          <p:nvPr/>
        </p:nvPicPr>
        <p:blipFill>
          <a:blip r:embed="rId10"/>
          <a:stretch/>
        </p:blipFill>
        <p:spPr>
          <a:xfrm>
            <a:off x="6858000" y="4378320"/>
            <a:ext cx="739800" cy="906480"/>
          </a:xfrm>
          <a:prstGeom prst="rect">
            <a:avLst/>
          </a:prstGeom>
          <a:ln w="0">
            <a:noFill/>
          </a:ln>
        </p:spPr>
      </p:pic>
      <p:pic>
        <p:nvPicPr>
          <p:cNvPr id="150" name="HH01727_" descr=""/>
          <p:cNvPicPr/>
          <p:nvPr/>
        </p:nvPicPr>
        <p:blipFill>
          <a:blip r:embed="rId11"/>
          <a:stretch/>
        </p:blipFill>
        <p:spPr>
          <a:xfrm>
            <a:off x="5410080" y="3886200"/>
            <a:ext cx="1067040" cy="9525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 flipV="1">
            <a:off x="5562720" y="5638680"/>
            <a:ext cx="7617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6324480" y="47239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6781680" y="5029200"/>
            <a:ext cx="2286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10280" y="5486400"/>
            <a:ext cx="12193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03560" y="632448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多くのリモコ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764360" y="41911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家電製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403040" y="40384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家電製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34240" y="502920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インターネッ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13920" y="6095880"/>
            <a:ext cx="1155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ネットワーク端末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D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0" y="3733920"/>
            <a:ext cx="4419720" cy="289548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248520" y="3429000"/>
            <a:ext cx="25146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ネットワーク化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28200" y="3733920"/>
            <a:ext cx="109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どこからで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いつで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操作した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j0078625" descr=""/>
          <p:cNvPicPr/>
          <p:nvPr/>
        </p:nvPicPr>
        <p:blipFill>
          <a:blip r:embed="rId12"/>
          <a:stretch/>
        </p:blipFill>
        <p:spPr>
          <a:xfrm flipH="1" rot="10800000">
            <a:off x="3657600" y="4723920"/>
            <a:ext cx="255600" cy="7765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471120" y="54864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ネット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00400" y="60199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400800" y="3886200"/>
            <a:ext cx="2286000" cy="106668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携帯サーバ”の実装検討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(2): 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現状はどう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1920" y="1905120"/>
            <a:ext cx="872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ウェブ･ブラウザを通して操作するものが多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最初に述べたように，操作性に不満がで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機器構成の分析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ウェブ経由で操作するため，“多数のリモコンを所有”している状態になる　→　ネット化前と操作の不便さはかわ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152280" y="3809880"/>
            <a:ext cx="2971800" cy="289584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3429000"/>
            <a:ext cx="259056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ウェブ経由で制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BS01640_" descr=""/>
          <p:cNvPicPr/>
          <p:nvPr/>
        </p:nvPicPr>
        <p:blipFill>
          <a:blip r:embed="rId1"/>
          <a:stretch/>
        </p:blipFill>
        <p:spPr>
          <a:xfrm>
            <a:off x="4952880" y="4114800"/>
            <a:ext cx="749520" cy="757080"/>
          </a:xfrm>
          <a:prstGeom prst="rect">
            <a:avLst/>
          </a:prstGeom>
          <a:ln w="0">
            <a:noFill/>
          </a:ln>
        </p:spPr>
      </p:pic>
      <p:pic>
        <p:nvPicPr>
          <p:cNvPr id="172" name="j0230668" descr=""/>
          <p:cNvPicPr/>
          <p:nvPr/>
        </p:nvPicPr>
        <p:blipFill>
          <a:blip r:embed="rId2"/>
          <a:stretch/>
        </p:blipFill>
        <p:spPr>
          <a:xfrm>
            <a:off x="8305920" y="5181480"/>
            <a:ext cx="618840" cy="13305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805640" y="380988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インターネッ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0" y="3733920"/>
            <a:ext cx="4419720" cy="289548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248520" y="3429000"/>
            <a:ext cx="25146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機器の内部構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44760" y="3429000"/>
            <a:ext cx="109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機器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内部構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をみてみよ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j0078625" descr=""/>
          <p:cNvPicPr/>
          <p:nvPr/>
        </p:nvPicPr>
        <p:blipFill>
          <a:blip r:embed="rId3"/>
          <a:stretch/>
        </p:blipFill>
        <p:spPr>
          <a:xfrm flipH="1" rot="10800000">
            <a:off x="3657600" y="4419720"/>
            <a:ext cx="255600" cy="776160"/>
          </a:xfrm>
          <a:prstGeom prst="rect">
            <a:avLst/>
          </a:prstGeom>
          <a:ln w="0">
            <a:noFill/>
          </a:ln>
        </p:spPr>
      </p:pic>
      <p:sp>
        <p:nvSpPr>
          <p:cNvPr id="178" name="Homepage"/>
          <p:cNvSpPr/>
          <p:nvPr/>
        </p:nvSpPr>
        <p:spPr>
          <a:xfrm>
            <a:off x="228600" y="5029200"/>
            <a:ext cx="380880" cy="4046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BS01640_" descr=""/>
          <p:cNvPicPr/>
          <p:nvPr/>
        </p:nvPicPr>
        <p:blipFill>
          <a:blip r:embed="rId4"/>
          <a:stretch/>
        </p:blipFill>
        <p:spPr>
          <a:xfrm>
            <a:off x="380880" y="4114800"/>
            <a:ext cx="749520" cy="757080"/>
          </a:xfrm>
          <a:prstGeom prst="rect">
            <a:avLst/>
          </a:prstGeom>
          <a:ln w="0">
            <a:noFill/>
          </a:ln>
        </p:spPr>
      </p:pic>
      <p:pic>
        <p:nvPicPr>
          <p:cNvPr id="180" name="j0078703" descr=""/>
          <p:cNvPicPr/>
          <p:nvPr/>
        </p:nvPicPr>
        <p:blipFill>
          <a:blip r:embed="rId5"/>
          <a:stretch/>
        </p:blipFill>
        <p:spPr>
          <a:xfrm>
            <a:off x="152280" y="5791320"/>
            <a:ext cx="524160" cy="904680"/>
          </a:xfrm>
          <a:prstGeom prst="rect">
            <a:avLst/>
          </a:prstGeom>
          <a:ln w="0">
            <a:noFill/>
          </a:ln>
        </p:spPr>
      </p:pic>
      <p:pic>
        <p:nvPicPr>
          <p:cNvPr id="181" name="j0237845" descr=""/>
          <p:cNvPicPr/>
          <p:nvPr/>
        </p:nvPicPr>
        <p:blipFill>
          <a:blip r:embed="rId6"/>
          <a:stretch/>
        </p:blipFill>
        <p:spPr>
          <a:xfrm>
            <a:off x="609480" y="6019920"/>
            <a:ext cx="762120" cy="610920"/>
          </a:xfrm>
          <a:prstGeom prst="rect">
            <a:avLst/>
          </a:prstGeom>
          <a:ln w="0">
            <a:noFill/>
          </a:ln>
        </p:spPr>
      </p:pic>
      <p:sp>
        <p:nvSpPr>
          <p:cNvPr id="182" name="Homepage"/>
          <p:cNvSpPr/>
          <p:nvPr/>
        </p:nvSpPr>
        <p:spPr>
          <a:xfrm>
            <a:off x="762120" y="5029200"/>
            <a:ext cx="380880" cy="4046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Homepage"/>
          <p:cNvSpPr/>
          <p:nvPr/>
        </p:nvSpPr>
        <p:spPr>
          <a:xfrm>
            <a:off x="762120" y="5562720"/>
            <a:ext cx="380880" cy="4046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j0230668" descr=""/>
          <p:cNvPicPr/>
          <p:nvPr/>
        </p:nvPicPr>
        <p:blipFill>
          <a:blip r:embed="rId7"/>
          <a:stretch/>
        </p:blipFill>
        <p:spPr>
          <a:xfrm>
            <a:off x="2209680" y="5334120"/>
            <a:ext cx="441360" cy="949320"/>
          </a:xfrm>
          <a:prstGeom prst="rect">
            <a:avLst/>
          </a:prstGeom>
          <a:ln w="0">
            <a:noFill/>
          </a:ln>
        </p:spPr>
      </p:pic>
      <p:pic>
        <p:nvPicPr>
          <p:cNvPr id="185" name="j0212551" descr=""/>
          <p:cNvPicPr/>
          <p:nvPr/>
        </p:nvPicPr>
        <p:blipFill>
          <a:blip r:embed="rId8"/>
          <a:stretch/>
        </p:blipFill>
        <p:spPr>
          <a:xfrm>
            <a:off x="2133720" y="4648320"/>
            <a:ext cx="490320" cy="601560"/>
          </a:xfrm>
          <a:prstGeom prst="rect">
            <a:avLst/>
          </a:prstGeom>
          <a:ln w="0">
            <a:noFill/>
          </a:ln>
        </p:spPr>
      </p:pic>
      <p:pic>
        <p:nvPicPr>
          <p:cNvPr id="186" name="HH01727_" descr=""/>
          <p:cNvPicPr/>
          <p:nvPr/>
        </p:nvPicPr>
        <p:blipFill>
          <a:blip r:embed="rId9"/>
          <a:stretch/>
        </p:blipFill>
        <p:spPr>
          <a:xfrm>
            <a:off x="1600200" y="3962520"/>
            <a:ext cx="685800" cy="6127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 flipV="1">
            <a:off x="380880" y="4648320"/>
            <a:ext cx="1526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914400" y="47239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609480" y="4800240"/>
            <a:ext cx="1526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143000" y="4419360"/>
            <a:ext cx="6094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43000" y="472428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472428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j0234489" descr=""/>
          <p:cNvPicPr/>
          <p:nvPr/>
        </p:nvPicPr>
        <p:blipFill>
          <a:blip r:embed="rId10"/>
          <a:stretch/>
        </p:blipFill>
        <p:spPr>
          <a:xfrm>
            <a:off x="6553080" y="4038480"/>
            <a:ext cx="992160" cy="793800"/>
          </a:xfrm>
          <a:prstGeom prst="rect">
            <a:avLst/>
          </a:prstGeom>
          <a:ln w="0">
            <a:noFill/>
          </a:ln>
        </p:spPr>
      </p:pic>
      <p:pic>
        <p:nvPicPr>
          <p:cNvPr id="194" name="j0222286" descr=""/>
          <p:cNvPicPr/>
          <p:nvPr/>
        </p:nvPicPr>
        <p:blipFill>
          <a:blip r:embed="rId11"/>
          <a:stretch/>
        </p:blipFill>
        <p:spPr>
          <a:xfrm>
            <a:off x="6858000" y="5562720"/>
            <a:ext cx="1254240" cy="8287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5791320" y="4419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86600" y="49528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001000" y="5791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12400" y="49528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機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55680" y="617220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ファームウェ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779240" y="54864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制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17520" y="5083200"/>
            <a:ext cx="8935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操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関数呼び出し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772400" y="40384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プログラ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988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27480" y="5562720"/>
            <a:ext cx="942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リモコンを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ウェブ向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に作り変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901760" y="5181480"/>
            <a:ext cx="1140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ウェブ化するため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ウェブから制御す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プログラムを追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6095880" y="49525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852520" y="441972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21440" y="42670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機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6680" y="394020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インターネット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54960" y="5486400"/>
            <a:ext cx="714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たくさん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ウェブ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携帯サーバ”の実装検討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(3): 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実装内容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1920" y="1905120"/>
            <a:ext cx="872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情報家電の制御プログラムに，直接ネット経由でアクセ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携帯サーバ”から，機器を直接操作す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機器操作プログラム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従来の家電のファームウェア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に，ネットワーク経由で，直接アクセスできるように，プログラムを作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3" name="BS01640_" descr=""/>
          <p:cNvPicPr/>
          <p:nvPr/>
        </p:nvPicPr>
        <p:blipFill>
          <a:blip r:embed="rId1"/>
          <a:stretch/>
        </p:blipFill>
        <p:spPr>
          <a:xfrm>
            <a:off x="4952880" y="4114800"/>
            <a:ext cx="749520" cy="757080"/>
          </a:xfrm>
          <a:prstGeom prst="rect">
            <a:avLst/>
          </a:prstGeom>
          <a:ln w="0">
            <a:noFill/>
          </a:ln>
        </p:spPr>
      </p:pic>
      <p:pic>
        <p:nvPicPr>
          <p:cNvPr id="214" name="j0230668" descr=""/>
          <p:cNvPicPr/>
          <p:nvPr/>
        </p:nvPicPr>
        <p:blipFill>
          <a:blip r:embed="rId2"/>
          <a:stretch/>
        </p:blipFill>
        <p:spPr>
          <a:xfrm>
            <a:off x="8305920" y="5181480"/>
            <a:ext cx="618840" cy="13305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4805640" y="380988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インターネッ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0" y="3733920"/>
            <a:ext cx="4419720" cy="289548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248520" y="3429000"/>
            <a:ext cx="25146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今回の内部構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j0222286" descr=""/>
          <p:cNvPicPr/>
          <p:nvPr/>
        </p:nvPicPr>
        <p:blipFill>
          <a:blip r:embed="rId3"/>
          <a:stretch/>
        </p:blipFill>
        <p:spPr>
          <a:xfrm>
            <a:off x="6858000" y="5562720"/>
            <a:ext cx="1254240" cy="8287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5791320" y="4419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086600" y="4419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001000" y="5791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312400" y="49528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機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779240" y="54864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制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617520" y="5083200"/>
            <a:ext cx="8935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操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関数呼び出し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988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94120" y="5873760"/>
            <a:ext cx="153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DA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に操作プログラムを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搭載</a:t>
            </a:r>
            <a:r>
              <a:rPr b="1" lang="ja-JP" sz="14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1" lang="ja-JP" sz="1400" spc="-1" strike="noStrike">
                <a:solidFill>
                  <a:srgbClr val="ff0000"/>
                </a:solidFill>
                <a:latin typeface="Tahoma"/>
              </a:rPr>
              <a:t>携帯サーバ</a:t>
            </a:r>
            <a:r>
              <a:rPr b="1" lang="ja-JP" sz="14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852520" y="441972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28800" y="3962520"/>
            <a:ext cx="2286000" cy="106668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BS01640_" descr=""/>
          <p:cNvPicPr/>
          <p:nvPr/>
        </p:nvPicPr>
        <p:blipFill>
          <a:blip r:embed="rId4"/>
          <a:stretch/>
        </p:blipFill>
        <p:spPr>
          <a:xfrm>
            <a:off x="152280" y="4191120"/>
            <a:ext cx="749520" cy="757080"/>
          </a:xfrm>
          <a:prstGeom prst="rect">
            <a:avLst/>
          </a:prstGeom>
          <a:ln w="0">
            <a:noFill/>
          </a:ln>
        </p:spPr>
      </p:pic>
      <p:pic>
        <p:nvPicPr>
          <p:cNvPr id="230" name="j0230668" descr=""/>
          <p:cNvPicPr/>
          <p:nvPr/>
        </p:nvPicPr>
        <p:blipFill>
          <a:blip r:embed="rId5"/>
          <a:stretch/>
        </p:blipFill>
        <p:spPr>
          <a:xfrm>
            <a:off x="3733920" y="5257800"/>
            <a:ext cx="618840" cy="13302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57320" y="388620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インターネッ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3809880"/>
            <a:ext cx="4419720" cy="289584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3581280"/>
            <a:ext cx="2514600" cy="2462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ahoma"/>
              </a:rPr>
              <a:t>従来の情報家電内部構成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j0234489" descr=""/>
          <p:cNvPicPr/>
          <p:nvPr/>
        </p:nvPicPr>
        <p:blipFill>
          <a:blip r:embed="rId6"/>
          <a:stretch/>
        </p:blipFill>
        <p:spPr>
          <a:xfrm>
            <a:off x="1981080" y="4114800"/>
            <a:ext cx="992160" cy="793800"/>
          </a:xfrm>
          <a:prstGeom prst="rect">
            <a:avLst/>
          </a:prstGeom>
          <a:ln w="0">
            <a:noFill/>
          </a:ln>
        </p:spPr>
      </p:pic>
      <p:pic>
        <p:nvPicPr>
          <p:cNvPr id="235" name="j0222286" descr=""/>
          <p:cNvPicPr/>
          <p:nvPr/>
        </p:nvPicPr>
        <p:blipFill>
          <a:blip r:embed="rId7"/>
          <a:stretch/>
        </p:blipFill>
        <p:spPr>
          <a:xfrm>
            <a:off x="2286000" y="5638680"/>
            <a:ext cx="1254240" cy="8287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990720" y="4495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514600" y="50292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40400" y="50292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機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568520" y="5791320"/>
            <a:ext cx="71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ahoma"/>
              </a:rPr>
              <a:t>ファームウェア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207240" y="55627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制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45520" y="5159520"/>
            <a:ext cx="8935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操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関数呼び出し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200400" y="41148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プログラ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99640" y="44956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447920" y="3962520"/>
            <a:ext cx="2895480" cy="266688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12760" y="535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359480" y="6248520"/>
            <a:ext cx="71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ahoma"/>
              </a:rPr>
              <a:t>ファームウェア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j0234489" descr=""/>
          <p:cNvPicPr/>
          <p:nvPr/>
        </p:nvPicPr>
        <p:blipFill>
          <a:blip r:embed="rId8"/>
          <a:stretch/>
        </p:blipFill>
        <p:spPr>
          <a:xfrm>
            <a:off x="5105520" y="5105520"/>
            <a:ext cx="609480" cy="488880"/>
          </a:xfrm>
          <a:prstGeom prst="rect">
            <a:avLst/>
          </a:prstGeom>
          <a:ln w="0">
            <a:noFill/>
          </a:ln>
        </p:spPr>
      </p:pic>
      <p:pic>
        <p:nvPicPr>
          <p:cNvPr id="249" name="j0237845" descr=""/>
          <p:cNvPicPr/>
          <p:nvPr/>
        </p:nvPicPr>
        <p:blipFill>
          <a:blip r:embed="rId9"/>
          <a:stretch/>
        </p:blipFill>
        <p:spPr>
          <a:xfrm>
            <a:off x="4724280" y="5181480"/>
            <a:ext cx="762120" cy="6112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6477120" y="4876920"/>
            <a:ext cx="2438280" cy="167616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0280" y="5943600"/>
            <a:ext cx="63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緑線内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機器に実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788080" y="4876920"/>
            <a:ext cx="63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緑線内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機器に実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449480" y="3962520"/>
            <a:ext cx="109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変更点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: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機器制御ぷグラムに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直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ネット経由でアクセ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219320" y="3962520"/>
            <a:ext cx="2361960" cy="1981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携帯サーバ”の実装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(1): 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プロトコルと言語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51920" y="1905120"/>
            <a:ext cx="872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ネット経由で操作関数にアクセスするには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I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呼び出しの実装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プロトコルに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ML RP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（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xmlrpc.com/spe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)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を採用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簡単に改造でき，自分好みにできる“携帯サーバ”を作るに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スクリプト言語で作るのがよい　→　オブジェクト指向言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uby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を採用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7" name="j0234489" descr=""/>
          <p:cNvPicPr/>
          <p:nvPr/>
        </p:nvPicPr>
        <p:blipFill>
          <a:blip r:embed="rId2"/>
          <a:stretch/>
        </p:blipFill>
        <p:spPr>
          <a:xfrm>
            <a:off x="1447920" y="4191120"/>
            <a:ext cx="838080" cy="672840"/>
          </a:xfrm>
          <a:prstGeom prst="rect">
            <a:avLst/>
          </a:prstGeom>
          <a:ln w="0">
            <a:noFill/>
          </a:ln>
        </p:spPr>
      </p:pic>
      <p:grpSp>
        <p:nvGrpSpPr>
          <p:cNvPr id="258" name=""/>
          <p:cNvGrpSpPr/>
          <p:nvPr/>
        </p:nvGrpSpPr>
        <p:grpSpPr>
          <a:xfrm>
            <a:off x="6324480" y="4343400"/>
            <a:ext cx="2447640" cy="1676160"/>
            <a:chOff x="6324480" y="4343400"/>
            <a:chExt cx="2447640" cy="1676160"/>
          </a:xfrm>
        </p:grpSpPr>
        <p:pic>
          <p:nvPicPr>
            <p:cNvPr id="259" name="j0230668" descr=""/>
            <p:cNvPicPr/>
            <p:nvPr/>
          </p:nvPicPr>
          <p:blipFill>
            <a:blip r:embed="rId3"/>
            <a:stretch/>
          </p:blipFill>
          <p:spPr>
            <a:xfrm>
              <a:off x="8153280" y="4647960"/>
              <a:ext cx="618840" cy="133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j0222286" descr=""/>
            <p:cNvPicPr/>
            <p:nvPr/>
          </p:nvPicPr>
          <p:blipFill>
            <a:blip r:embed="rId4"/>
            <a:stretch/>
          </p:blipFill>
          <p:spPr>
            <a:xfrm>
              <a:off x="6705360" y="5029200"/>
              <a:ext cx="125424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7848360" y="52578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159760" y="44193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ahoma"/>
                </a:rPr>
                <a:t>機器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626600" y="49528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ahoma"/>
                </a:rPr>
                <a:t>制御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464880" y="4549680"/>
              <a:ext cx="89352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Tahoma"/>
                </a:rPr>
                <a:t>操作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Tahoma"/>
                </a:rPr>
                <a:t>(</a:t>
              </a:r>
              <a:r>
                <a:rPr b="0" lang="ja-JP" sz="1200" spc="-1" strike="noStrike">
                  <a:solidFill>
                    <a:srgbClr val="000000"/>
                  </a:solidFill>
                  <a:latin typeface="Tahoma"/>
                </a:rPr>
                <a:t>関数呼び出し</a:t>
              </a:r>
              <a:r>
                <a:rPr b="0" lang="ja-JP" sz="12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206840" y="5715000"/>
              <a:ext cx="714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ahoma"/>
                </a:rPr>
                <a:t>ファームウェア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324480" y="4343400"/>
              <a:ext cx="2438280" cy="1676160"/>
            </a:xfrm>
            <a:prstGeom prst="rect">
              <a:avLst/>
            </a:pr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7" name="j0234489" descr=""/>
          <p:cNvPicPr/>
          <p:nvPr/>
        </p:nvPicPr>
        <p:blipFill>
          <a:blip r:embed="rId5"/>
          <a:stretch/>
        </p:blipFill>
        <p:spPr>
          <a:xfrm>
            <a:off x="2590920" y="4191120"/>
            <a:ext cx="838080" cy="672840"/>
          </a:xfrm>
          <a:prstGeom prst="rect">
            <a:avLst/>
          </a:prstGeom>
          <a:ln w="0">
            <a:noFill/>
          </a:ln>
        </p:spPr>
      </p:pic>
      <p:pic>
        <p:nvPicPr>
          <p:cNvPr id="268" name="BD06782_" descr=""/>
          <p:cNvPicPr/>
          <p:nvPr/>
        </p:nvPicPr>
        <p:blipFill>
          <a:blip r:embed="rId6"/>
          <a:stretch/>
        </p:blipFill>
        <p:spPr>
          <a:xfrm>
            <a:off x="1447920" y="5029200"/>
            <a:ext cx="761760" cy="852480"/>
          </a:xfrm>
          <a:prstGeom prst="rect">
            <a:avLst/>
          </a:prstGeom>
          <a:ln w="0">
            <a:noFill/>
          </a:ln>
        </p:spPr>
      </p:pic>
      <p:pic>
        <p:nvPicPr>
          <p:cNvPr id="269" name="j0234489" descr=""/>
          <p:cNvPicPr/>
          <p:nvPr/>
        </p:nvPicPr>
        <p:blipFill>
          <a:blip r:embed="rId7"/>
          <a:stretch/>
        </p:blipFill>
        <p:spPr>
          <a:xfrm>
            <a:off x="2590920" y="5181480"/>
            <a:ext cx="838080" cy="673200"/>
          </a:xfrm>
          <a:prstGeom prst="rect">
            <a:avLst/>
          </a:prstGeom>
          <a:ln w="0">
            <a:noFill/>
          </a:ln>
        </p:spPr>
      </p:pic>
      <p:pic>
        <p:nvPicPr>
          <p:cNvPr id="270" name="j0078625" descr=""/>
          <p:cNvPicPr/>
          <p:nvPr/>
        </p:nvPicPr>
        <p:blipFill>
          <a:blip r:embed="rId8"/>
          <a:stretch/>
        </p:blipFill>
        <p:spPr>
          <a:xfrm flipH="1" rot="10800000">
            <a:off x="1371600" y="6081840"/>
            <a:ext cx="255600" cy="776160"/>
          </a:xfrm>
          <a:prstGeom prst="rect">
            <a:avLst/>
          </a:prstGeom>
          <a:ln w="0">
            <a:noFill/>
          </a:ln>
        </p:spPr>
      </p:pic>
      <p:pic>
        <p:nvPicPr>
          <p:cNvPr id="271" name="j0237845" descr=""/>
          <p:cNvPicPr/>
          <p:nvPr/>
        </p:nvPicPr>
        <p:blipFill>
          <a:blip r:embed="rId9"/>
          <a:stretch/>
        </p:blipFill>
        <p:spPr>
          <a:xfrm>
            <a:off x="2590920" y="6095880"/>
            <a:ext cx="761760" cy="6112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1337040" y="3581280"/>
            <a:ext cx="203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携帯サーバ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DA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で動作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05120" y="6477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362320" y="594360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429000" y="55627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055480" y="5029200"/>
            <a:ext cx="114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関数呼び出し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ML 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103520" y="3886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情報家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81000" y="3581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ドライバ･ソフ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49760" y="4419720"/>
            <a:ext cx="927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インタフェー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プログラ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990720" y="472428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3429000" y="4038480"/>
            <a:ext cx="8380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BS01640_" descr=""/>
          <p:cNvPicPr/>
          <p:nvPr/>
        </p:nvPicPr>
        <p:blipFill>
          <a:blip r:embed="rId10"/>
          <a:stretch/>
        </p:blipFill>
        <p:spPr>
          <a:xfrm>
            <a:off x="3809880" y="5181480"/>
            <a:ext cx="749520" cy="7574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3814920" y="480060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インターネッ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228600" y="4510080"/>
            <a:ext cx="2362320" cy="1981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携帯サーバ”の実装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(2):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&amp;P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とセキュリティ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51920" y="1904760"/>
            <a:ext cx="87267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簡単に情報家電が使えるようにするに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ug &amp; Play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が不可欠　→　ドライバソフトウェアをインストールする方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セキュリティ：赤の他人が勝手に情報家電を使えないようにす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工夫１：ドライバソフトウェアは，“家電内部に保存”→物理的に取得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工夫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2: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ドライバソフトウェアと情報家電間の通信は，“ブラックボックス化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7" name="j0234489" descr=""/>
          <p:cNvPicPr/>
          <p:nvPr/>
        </p:nvPicPr>
        <p:blipFill>
          <a:blip r:embed="rId1"/>
          <a:stretch/>
        </p:blipFill>
        <p:spPr>
          <a:xfrm>
            <a:off x="457200" y="4738680"/>
            <a:ext cx="838080" cy="673200"/>
          </a:xfrm>
          <a:prstGeom prst="rect">
            <a:avLst/>
          </a:prstGeom>
          <a:ln w="0">
            <a:noFill/>
          </a:ln>
        </p:spPr>
      </p:pic>
      <p:grpSp>
        <p:nvGrpSpPr>
          <p:cNvPr id="288" name=""/>
          <p:cNvGrpSpPr/>
          <p:nvPr/>
        </p:nvGrpSpPr>
        <p:grpSpPr>
          <a:xfrm>
            <a:off x="6696000" y="5029200"/>
            <a:ext cx="2447640" cy="1676160"/>
            <a:chOff x="6696000" y="5029200"/>
            <a:chExt cx="2447640" cy="1676160"/>
          </a:xfrm>
        </p:grpSpPr>
        <p:pic>
          <p:nvPicPr>
            <p:cNvPr id="289" name="j0230668" descr=""/>
            <p:cNvPicPr/>
            <p:nvPr/>
          </p:nvPicPr>
          <p:blipFill>
            <a:blip r:embed="rId2"/>
            <a:stretch/>
          </p:blipFill>
          <p:spPr>
            <a:xfrm>
              <a:off x="8524800" y="5333760"/>
              <a:ext cx="618840" cy="133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j0222286" descr=""/>
            <p:cNvPicPr/>
            <p:nvPr/>
          </p:nvPicPr>
          <p:blipFill>
            <a:blip r:embed="rId3"/>
            <a:stretch/>
          </p:blipFill>
          <p:spPr>
            <a:xfrm>
              <a:off x="7076880" y="5715000"/>
              <a:ext cx="125424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8219880" y="5943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531280" y="51051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ahoma"/>
                </a:rPr>
                <a:t>機器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998120" y="56386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ahoma"/>
                </a:rPr>
                <a:t>制御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836400" y="5235480"/>
              <a:ext cx="89352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Tahoma"/>
                </a:rPr>
                <a:t>操作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Tahoma"/>
                </a:rPr>
                <a:t>(</a:t>
              </a:r>
              <a:r>
                <a:rPr b="0" lang="ja-JP" sz="1200" spc="-1" strike="noStrike">
                  <a:solidFill>
                    <a:srgbClr val="000000"/>
                  </a:solidFill>
                  <a:latin typeface="Tahoma"/>
                </a:rPr>
                <a:t>関数呼び出し</a:t>
              </a:r>
              <a:r>
                <a:rPr b="0" lang="ja-JP" sz="12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578360" y="6400800"/>
              <a:ext cx="714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ahoma"/>
                </a:rPr>
                <a:t>ファームウェア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696000" y="5029200"/>
              <a:ext cx="2438280" cy="1676160"/>
            </a:xfrm>
            <a:prstGeom prst="rect">
              <a:avLst/>
            </a:pr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7" name="j0234489" descr=""/>
          <p:cNvPicPr/>
          <p:nvPr/>
        </p:nvPicPr>
        <p:blipFill>
          <a:blip r:embed="rId4"/>
          <a:stretch/>
        </p:blipFill>
        <p:spPr>
          <a:xfrm>
            <a:off x="1600200" y="4738680"/>
            <a:ext cx="838080" cy="673200"/>
          </a:xfrm>
          <a:prstGeom prst="rect">
            <a:avLst/>
          </a:prstGeom>
          <a:ln w="0">
            <a:noFill/>
          </a:ln>
        </p:spPr>
      </p:pic>
      <p:pic>
        <p:nvPicPr>
          <p:cNvPr id="298" name="BD06782_" descr=""/>
          <p:cNvPicPr/>
          <p:nvPr/>
        </p:nvPicPr>
        <p:blipFill>
          <a:blip r:embed="rId5"/>
          <a:stretch/>
        </p:blipFill>
        <p:spPr>
          <a:xfrm>
            <a:off x="457200" y="5576760"/>
            <a:ext cx="762120" cy="852480"/>
          </a:xfrm>
          <a:prstGeom prst="rect">
            <a:avLst/>
          </a:prstGeom>
          <a:ln w="0">
            <a:noFill/>
          </a:ln>
        </p:spPr>
      </p:pic>
      <p:pic>
        <p:nvPicPr>
          <p:cNvPr id="299" name="j0234489" descr=""/>
          <p:cNvPicPr/>
          <p:nvPr/>
        </p:nvPicPr>
        <p:blipFill>
          <a:blip r:embed="rId6"/>
          <a:stretch/>
        </p:blipFill>
        <p:spPr>
          <a:xfrm>
            <a:off x="1600200" y="5729400"/>
            <a:ext cx="838080" cy="67284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422640" y="6491160"/>
            <a:ext cx="203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携帯サーバ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DA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で動作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438280" y="6248520"/>
            <a:ext cx="456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217400" y="5715000"/>
            <a:ext cx="114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関数呼び出し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ML 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475040" y="4572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情報家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165760" y="41148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ドライバ･ソフ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49760" y="3886200"/>
            <a:ext cx="927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インタフェー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プログラ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2280" y="4419720"/>
            <a:ext cx="228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2361960" y="4724280"/>
            <a:ext cx="1523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BS01640_" descr=""/>
          <p:cNvPicPr/>
          <p:nvPr/>
        </p:nvPicPr>
        <p:blipFill>
          <a:blip r:embed="rId7"/>
          <a:stretch/>
        </p:blipFill>
        <p:spPr>
          <a:xfrm>
            <a:off x="3048120" y="5867280"/>
            <a:ext cx="749160" cy="75744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3211200" y="4903920"/>
            <a:ext cx="1354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赤外線通信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rD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メモリカードなどで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物理的にドライバを入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HH01727_" descr=""/>
          <p:cNvPicPr/>
          <p:nvPr/>
        </p:nvPicPr>
        <p:blipFill>
          <a:blip r:embed="rId8"/>
          <a:stretch/>
        </p:blipFill>
        <p:spPr>
          <a:xfrm>
            <a:off x="3809880" y="3886200"/>
            <a:ext cx="1143000" cy="10206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 flipH="1">
            <a:off x="1295280" y="44197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j0234489" descr=""/>
          <p:cNvPicPr/>
          <p:nvPr/>
        </p:nvPicPr>
        <p:blipFill>
          <a:blip r:embed="rId9"/>
          <a:stretch/>
        </p:blipFill>
        <p:spPr>
          <a:xfrm>
            <a:off x="3124080" y="4495680"/>
            <a:ext cx="304920" cy="24444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4293360" y="6276960"/>
            <a:ext cx="215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関数名，制御手順などを“非規格化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装置ごとに関数名を変更す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j0078711" descr=""/>
          <p:cNvPicPr/>
          <p:nvPr/>
        </p:nvPicPr>
        <p:blipFill>
          <a:blip r:embed="rId10"/>
          <a:stretch/>
        </p:blipFill>
        <p:spPr>
          <a:xfrm>
            <a:off x="5715000" y="3962520"/>
            <a:ext cx="652320" cy="15858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5152680" y="441972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侵入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867280" y="5562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697440" y="4038480"/>
            <a:ext cx="183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通信規格”が分からないた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クラックしづら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9800" y="56386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クラッ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携帯サーバ”の実装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(3): 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なぜ今回の実装形式を選んだの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8726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-205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u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amp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a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45680" indent="-1713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++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言語を使用した場合　→　ドライバのダイナミックローディングなど，結構ややこしい．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45680" indent="-1713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スクリプト言語で構成したので，簡単に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ug &amp; Play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化ができました．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05560" indent="-205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コスト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45680" indent="-1713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情報家電に対応するためには　→　家電の製造コストを考えたい．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45680" indent="-1713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ML RPC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ならば，最小の製造コストだろうと考察した．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05560" indent="-205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セキュリティ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45680" indent="-1713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ユーザの声）実際に情報家電に触れない人が，装置を操作できるなんて，おかしいでしょ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?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　→　装置に触れる人だけが，ネット経由でも，操作できるようにしようよ．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45680" indent="-1713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今回の実装は，機器呼び出し制御をおこなうプログラムを，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DA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で動作している携帯サーバ内の“ドライバソフト”にした．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45680" indent="-1713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ドライバソフト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I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は，規格に準拠すればよい．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45680" indent="-1713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装置の制御手順は，“独自規格”で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K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．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ドライバソフトが“独自規格”をサポート．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05560" indent="-205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その他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45680" indent="-1713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分散オブジェクト技術，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ML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のデータ処理技術，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Pv6,RPC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などのネットワーク技術，セッション管理など，いろいろな技術を使っています．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4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4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4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upppau</cp:lastModifiedBy>
  <dcterms:modified xsi:type="dcterms:W3CDTF">2003-08-31T14:43:28Z</dcterms:modified>
  <cp:revision>34</cp:revision>
  <dc:subject/>
  <dc:title>PowerPoint Presentation</dc:title>
</cp:coreProperties>
</file>