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E4D4-B53A-4F13-97CA-9B35A2678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Eras Medium IT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B349-74ED-466A-BB74-9C8BE3D2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Eras Medium IT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6412-9CA9-4616-AE48-8349D0897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Eras Medium IT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20DA-C79E-45FE-B378-CA231CD47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5CFC-C95D-4B3F-8C1A-0F4489855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Eras Medium IT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0FC9-0655-4955-936E-F98AA27C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Eras Medium IT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DD94-2268-422F-B8D7-97DA31B1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Eras Medium IT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4912-EDE1-4A0C-AF23-274F6822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2EA4-0714-482C-8C9A-5D5C3C46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2114-618E-4452-8AE3-286C0999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Eras Medium IT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DDA9-C015-471B-A10A-4A81E46A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Eras Medium IT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0AE9-D006-4DD1-931D-CDA79044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Eras Medium IT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00C9-EA49-489E-8A50-45F73973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Eras Medium IT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FB4A-7BDE-40A3-81B6-8A35105F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Eras Medium IT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E2F9-FB48-4135-B6DC-70ABAED9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Eras Medium IT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9F4C-8DD0-48B1-B988-9116FFEF7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Eras Medium IT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A608-4CE6-4C33-AE39-7BA0691C8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Eras Medium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F5A0-F2B9-49E5-82A6-77ED95E6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Eras Medium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40B6-3DE7-41D7-955A-D306B3E8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ECB0-AA59-467A-83A9-3F5C008B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3FDA-0A59-408B-BCDA-3D8F4593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Eras Medium IT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B33A-F39A-49DA-B78D-E9100E6C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Eras Medium IT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D76E-20F6-4598-A79F-6AB17984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Eras Medium IT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2302-CC6A-4053-8E0C-3EF86F4D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Eras Medium ITC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Eras Medium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ras Medium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ras Medium IT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Eras Medium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ras Medium IT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Eras Medium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ras Medium IT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Eras Medium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ras Medium IT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Eras Medium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ras Medium IT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Eras Medium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ras Medium IT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Eras Medium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ras Medium IT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w Cen MT"/>
                <a:ea typeface="さなフォン丸P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w Cen MT"/>
                <a:ea typeface="さなフォン丸P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2428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w Cen MT"/>
                <a:ea typeface="さなフォン丸P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w Cen MT"/>
                <a:ea typeface="さなフォン丸P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w Cen MT"/>
                <a:ea typeface="さなフォン丸P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0219-64AA-4D13-900A-9B34A55961D3}" type="slidenum">
              <a:rPr b="0" lang="en-US" sz="1000" spc="-1" strike="noStrike">
                <a:solidFill>
                  <a:srgbClr val="ffffff"/>
                </a:solidFill>
                <a:latin typeface="Tw Cen MT"/>
                <a:ea typeface="さなフォン丸P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Eras Medium ITC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Eras Medium IT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w Cen MT"/>
                <a:ea typeface="さなフォン丸P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w Cen MT"/>
                <a:ea typeface="さなフォン丸P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52428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w Cen MT"/>
                <a:ea typeface="さなフォン丸P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w Cen MT"/>
                <a:ea typeface="さなフォン丸P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w Cen MT"/>
                <a:ea typeface="さなフォン丸P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2412-7B5A-49C7-A913-730990CB3485}" type="slidenum">
              <a:rPr b="0" lang="en-US" sz="1000" spc="-1" strike="noStrike">
                <a:solidFill>
                  <a:srgbClr val="ffffff"/>
                </a:solidFill>
                <a:latin typeface="Tw Cen MT"/>
                <a:ea typeface="さなフォン丸P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ras Medium IT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ras Medium IT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Eras Medium ITC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Eras Medium IT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Eras Medium IT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Eras Medium ITC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Eras Medium IT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Eras Medium IT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Eras Medium ITC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Eras Medium IT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Eras Medium IT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Eras Medium ITC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Eras Medium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Eras Medium IT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Eras Medium ITC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Eras Medium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Eras Medium IT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Eras Medium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icrosoft.com/japan/communities/mvp/" TargetMode="External"/><Relationship Id="rId3" Type="http://schemas.openxmlformats.org/officeDocument/2006/relationships/hyperlink" Target="http://www.microsoft.com/japan/communities/mvp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12.png"/><Relationship Id="rId15" Type="http://schemas.openxmlformats.org/officeDocument/2006/relationships/image" Target="../media/image5.png"/><Relationship Id="rId16" Type="http://schemas.openxmlformats.org/officeDocument/2006/relationships/image" Target="../media/image12.png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wmf"/><Relationship Id="rId7" Type="http://schemas.openxmlformats.org/officeDocument/2006/relationships/image" Target="../media/image5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13.wmf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13.wmf"/><Relationship Id="rId13" Type="http://schemas.openxmlformats.org/officeDocument/2006/relationships/image" Target="../media/image5.png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3.wmf"/><Relationship Id="rId16" Type="http://schemas.openxmlformats.org/officeDocument/2006/relationships/image" Target="../media/image5.png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3.wmf"/><Relationship Id="rId19" Type="http://schemas.openxmlformats.org/officeDocument/2006/relationships/image" Target="../media/image5.png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13.wmf"/><Relationship Id="rId22" Type="http://schemas.openxmlformats.org/officeDocument/2006/relationships/image" Target="../media/image5.png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13.wmf"/><Relationship Id="rId25" Type="http://schemas.openxmlformats.org/officeDocument/2006/relationships/image" Target="../media/image5.png"/><Relationship Id="rId2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cc00"/>
                </a:solidFill>
                <a:latin typeface="Eras Medium ITC"/>
              </a:rPr>
              <a:t>PushToCast</a:t>
            </a:r>
            <a:endParaRPr b="0" lang="en-US" sz="4400" spc="-1" strike="noStrike">
              <a:solidFill>
                <a:srgbClr val="ffcc00"/>
              </a:solidFill>
              <a:latin typeface="Eras Medium IT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Eras Medium ITC"/>
              </a:rPr>
              <a:t>小野 雄太郎</a:t>
            </a: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Eras Medium ITC"/>
              </a:rPr>
              <a:t>慶應義塾大学 環境情報学部 </a:t>
            </a:r>
            <a:r>
              <a:rPr b="0" lang="en-US" sz="3200" spc="-1" strike="noStrike">
                <a:solidFill>
                  <a:srgbClr val="ffffff"/>
                </a:solidFill>
                <a:latin typeface="Eras Medium ITC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Eras Medium ITC"/>
              </a:rPr>
              <a:t>年</a:t>
            </a: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84" name="">
            <a:hlinkClick r:id="rId2"/>
          </p:cNvPr>
          <p:cNvSpPr/>
          <p:nvPr/>
        </p:nvSpPr>
        <p:spPr>
          <a:xfrm>
            <a:off x="1605600" y="5084640"/>
            <a:ext cx="598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Eras Medium ITC"/>
                <a:ea typeface="さなフォン角P"/>
              </a:rPr>
              <a:t>Microsoft MVP for Windows Server – Networking, Jan 2004 – Jan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5013360"/>
            <a:ext cx="1009440" cy="158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Pv6 Appli-Contes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0855-F9D5-4B9B-BE58-31C65C78D9D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Eras Medium ITC"/>
              </a:rPr>
              <a:t>Thank you!</a:t>
            </a:r>
            <a:endParaRPr b="0" lang="en-US" sz="4400" spc="-1" strike="noStrike">
              <a:solidFill>
                <a:srgbClr val="ffcc00"/>
              </a:solidFill>
              <a:latin typeface="Eras Medium IT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Pv6 Appli-Contes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3D40-3CA8-48D1-9198-9A1877B33C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cc00"/>
                </a:solidFill>
                <a:latin typeface="Eras Medium ITC"/>
              </a:rPr>
              <a:t>What’s PushToCast?</a:t>
            </a:r>
            <a:endParaRPr b="0" lang="en-US" sz="4400" spc="-1" strike="noStrike">
              <a:solidFill>
                <a:srgbClr val="ffcc00"/>
              </a:solidFill>
              <a:latin typeface="Eras Medium IT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ras Medium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ff"/>
                </a:solidFill>
                <a:latin typeface="Eras Medium ITC"/>
              </a:rPr>
              <a:t>音声および映像によるコミュニケーションを、手間なく簡便に行うためのシンプルで直感的なアプリケーション。</a:t>
            </a: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Eras Medium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Eras Medium ITC"/>
              </a:rPr>
              <a:t>動画にも対応。</a:t>
            </a:r>
            <a:endParaRPr b="0" lang="en-US" sz="2800" spc="-1" strike="noStrike">
              <a:solidFill>
                <a:srgbClr val="ffffff"/>
              </a:solidFill>
              <a:latin typeface="Eras Medium ITC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780000" y="3068640"/>
            <a:ext cx="4533840" cy="302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Appli-Contes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392D-2DA4-443B-B069-A29978021A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Eras Medium ITC"/>
              </a:rPr>
              <a:t>Case of …</a:t>
            </a:r>
            <a:endParaRPr b="0" lang="en-US" sz="4400" spc="-1" strike="noStrike">
              <a:solidFill>
                <a:srgbClr val="ffcc00"/>
              </a:solidFill>
              <a:latin typeface="Eras Medium IT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ras Medium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ff"/>
                </a:solidFill>
                <a:latin typeface="Eras Medium ITC"/>
              </a:rPr>
              <a:t>簡単に使える。</a:t>
            </a: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Eras Medium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Eras Medium ITC"/>
              </a:rPr>
              <a:t>最初に相手先のアドレスを指定するだけで、あとは録音ボタンを押すだけですぐに使える。</a:t>
            </a:r>
            <a:endParaRPr b="0" lang="en-US" sz="2800" spc="-1" strike="noStrike">
              <a:solidFill>
                <a:srgbClr val="ffffff"/>
              </a:solidFill>
              <a:latin typeface="Eras Medium IT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Eras Medium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Eras Medium ITC"/>
              </a:rPr>
              <a:t>固定的な</a:t>
            </a:r>
            <a:r>
              <a:rPr b="0" sz="2800" spc="-1" strike="noStrike">
                <a:solidFill>
                  <a:srgbClr val="ffffff"/>
                </a:solidFill>
                <a:latin typeface="Eras Medium ITC"/>
              </a:rPr>
              <a:t>IP</a:t>
            </a:r>
            <a:r>
              <a:rPr b="0" sz="2800" spc="-1" strike="noStrike">
                <a:solidFill>
                  <a:srgbClr val="ffffff"/>
                </a:solidFill>
                <a:latin typeface="Eras Medium ITC"/>
              </a:rPr>
              <a:t>アドレスを利用することによって常時接続したまま、必要なときだけ音声・動画でコミュニケーションを取れる。</a:t>
            </a:r>
            <a:endParaRPr b="0" lang="en-US" sz="2800" spc="-1" strike="noStrike">
              <a:solidFill>
                <a:srgbClr val="ffffff"/>
              </a:solidFill>
              <a:latin typeface="Eras Medium IT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ras Medium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ff"/>
                </a:solidFill>
                <a:latin typeface="Eras Medium ITC"/>
              </a:rPr>
              <a:t>多対多の半二重通信により、構内放送のような一斉同報通知などにも利用可能。</a:t>
            </a: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Appli-Contes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C14A-3FBC-417B-8E90-7670938E3D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Eras Medium ITC"/>
              </a:rPr>
              <a:t>Introduction (1)</a:t>
            </a:r>
            <a:endParaRPr b="0" lang="en-US" sz="4400" spc="-1" strike="noStrike">
              <a:solidFill>
                <a:srgbClr val="ffcc00"/>
              </a:solidFill>
              <a:latin typeface="Eras Medium ITC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2519640" cy="1687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900000" y="3860640"/>
            <a:ext cx="2519640" cy="1667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98040" y="1197000"/>
            <a:ext cx="179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Tw Cen MT"/>
                <a:ea typeface="さなフォン丸P"/>
              </a:rPr>
              <a:t>FirstUs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Tw Cen MT"/>
                <a:ea typeface="さなフォン丸P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Tw Cen MT"/>
                <a:ea typeface="さなフォン丸P"/>
              </a:rPr>
              <a:t>チャネルのホストを開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1680" y="3500280"/>
            <a:ext cx="155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w Cen MT"/>
                <a:ea typeface="さなフォン丸P"/>
              </a:rPr>
              <a:t>2. </a:t>
            </a:r>
            <a:r>
              <a:rPr b="0" lang="zh-CN" sz="1600" spc="-1" strike="noStrike">
                <a:solidFill>
                  <a:srgbClr val="ffffff"/>
                </a:solidFill>
                <a:latin typeface="Tw Cen MT"/>
                <a:ea typeface="さなフォン丸P"/>
              </a:rPr>
              <a:t>チャネルの作成完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40440" y="1773360"/>
            <a:ext cx="1550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Tw Cen MT"/>
                <a:ea typeface="さなフォン丸P"/>
              </a:rPr>
              <a:t>OtherUs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Tw Cen MT"/>
                <a:ea typeface="さなフォン丸P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Tw Cen MT"/>
                <a:ea typeface="さなフォン丸P"/>
              </a:rPr>
              <a:t>既存チャネルに参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364000" y="2349360"/>
            <a:ext cx="2519640" cy="1673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211720" y="4076640"/>
            <a:ext cx="155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w Cen MT"/>
                <a:ea typeface="さなフォン丸P"/>
              </a:rPr>
              <a:t>2. </a:t>
            </a:r>
            <a:r>
              <a:rPr b="0" lang="zh-CN" sz="1600" spc="-1" strike="noStrike">
                <a:solidFill>
                  <a:srgbClr val="ffffff"/>
                </a:solidFill>
                <a:latin typeface="Tw Cen MT"/>
                <a:ea typeface="さなフォン丸P"/>
              </a:rPr>
              <a:t>チャネルに参加完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5364000" y="4437000"/>
            <a:ext cx="2521080" cy="1662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500720" y="1268280"/>
            <a:ext cx="0" cy="4465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9000000">
            <a:off x="3923640" y="3573000"/>
            <a:ext cx="1081080" cy="6476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0c0c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Appli-Contes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06DC-49C0-4841-8D42-82DB63B0BB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Eras Medium ITC"/>
              </a:rPr>
              <a:t>Introduction (2)</a:t>
            </a:r>
            <a:endParaRPr b="0" lang="en-US" sz="4400" spc="-1" strike="noStrike">
              <a:solidFill>
                <a:srgbClr val="ffcc00"/>
              </a:solidFill>
              <a:latin typeface="Eras Medium IT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64000" y="2133720"/>
            <a:ext cx="2519640" cy="1668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086080" y="1773360"/>
            <a:ext cx="10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w Cen MT"/>
                <a:ea typeface="さなフォン丸P"/>
              </a:rPr>
              <a:t>3. </a:t>
            </a:r>
            <a:r>
              <a:rPr b="0" lang="zh-CN" sz="1600" spc="-1" strike="noStrike">
                <a:solidFill>
                  <a:srgbClr val="ffffff"/>
                </a:solidFill>
                <a:latin typeface="Tw Cen MT"/>
                <a:ea typeface="さなフォン丸P"/>
              </a:rPr>
              <a:t>録音の開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042920" y="3070080"/>
            <a:ext cx="2536920" cy="1698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97840" y="2709720"/>
            <a:ext cx="142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w Cen MT"/>
                <a:ea typeface="さなフォン丸P"/>
              </a:rPr>
              <a:t>4. </a:t>
            </a:r>
            <a:r>
              <a:rPr b="0" lang="zh-CN" sz="1600" spc="-1" strike="noStrike">
                <a:solidFill>
                  <a:srgbClr val="ffffff"/>
                </a:solidFill>
                <a:latin typeface="Tw Cen MT"/>
                <a:ea typeface="さなフォン丸P"/>
              </a:rPr>
              <a:t>録音の受信、再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66040" y="5229360"/>
            <a:ext cx="29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  <a:ea typeface="さなフォン丸P"/>
              </a:rPr>
              <a:t>To be continu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9000000">
            <a:off x="3923640" y="3284280"/>
            <a:ext cx="1081080" cy="6476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0c0c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00000">
            <a:off x="3924360" y="4508640"/>
            <a:ext cx="1081080" cy="6476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0c0c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Appli-Contes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E3E1-4C39-47A1-9B39-40D851BD1D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Eras Medium ITC"/>
              </a:rPr>
              <a:t>Case: Peer to Peer</a:t>
            </a:r>
            <a:endParaRPr b="0" lang="en-US" sz="4400" spc="-1" strike="noStrike">
              <a:solidFill>
                <a:srgbClr val="ffcc00"/>
              </a:solidFill>
              <a:latin typeface="Eras Medium ITC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4360" y="1700280"/>
          <a:ext cx="1344600" cy="1755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700280"/>
                    <a:ext cx="134460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7164360" y="4076640"/>
          <a:ext cx="1344600" cy="1755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4360" y="4076640"/>
                    <a:ext cx="134460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2050920" y="2276640"/>
            <a:ext cx="1295640" cy="857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6084720" y="4005360"/>
            <a:ext cx="1297080" cy="858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rot="900000">
            <a:off x="4500720" y="3789000"/>
            <a:ext cx="1081080" cy="6476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0c0c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1700000">
            <a:off x="3707640" y="2997000"/>
            <a:ext cx="1081080" cy="6476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0c0c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87720" y="134136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w Cen MT"/>
                <a:ea typeface="さなフォン丸P"/>
              </a:rPr>
              <a:t>共同作業での、ちょっとした声かけに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Appli-Contes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1144-FB76-4C9A-85BD-F42035FC53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Eras Medium ITC"/>
              </a:rPr>
              <a:t>Case: Group Meeting</a:t>
            </a:r>
            <a:endParaRPr b="0" lang="en-US" sz="4400" spc="-1" strike="noStrike">
              <a:solidFill>
                <a:srgbClr val="ffcc00"/>
              </a:solidFill>
              <a:latin typeface="Eras Medium ITC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12720" y="2997360"/>
          <a:ext cx="1344600" cy="1755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2720" y="2997360"/>
                    <a:ext cx="134460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7451640" y="3357720"/>
          <a:ext cx="1344600" cy="1755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51640" y="3357720"/>
                    <a:ext cx="134460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3635280" y="1628640"/>
          <a:ext cx="1344600" cy="1756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635280" y="1628640"/>
                    <a:ext cx="1344600" cy="17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3708360" y="4653000"/>
          <a:ext cx="1344600" cy="1755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08360" y="4653000"/>
                    <a:ext cx="134460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 rot="900000">
            <a:off x="5219640" y="4076280"/>
            <a:ext cx="1081080" cy="6476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0c0c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0"/>
          <a:stretch/>
        </p:blipFill>
        <p:spPr>
          <a:xfrm>
            <a:off x="1044720" y="4078440"/>
            <a:ext cx="782640" cy="1368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1"/>
          <a:stretch/>
        </p:blipFill>
        <p:spPr>
          <a:xfrm>
            <a:off x="7596360" y="4437000"/>
            <a:ext cx="782640" cy="1368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2"/>
          <a:stretch/>
        </p:blipFill>
        <p:spPr>
          <a:xfrm>
            <a:off x="1332000" y="3789360"/>
            <a:ext cx="1295280" cy="857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3"/>
          <a:stretch/>
        </p:blipFill>
        <p:spPr>
          <a:xfrm>
            <a:off x="6732720" y="4221000"/>
            <a:ext cx="1296720" cy="858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4"/>
          <a:stretch/>
        </p:blipFill>
        <p:spPr>
          <a:xfrm>
            <a:off x="3276720" y="5157720"/>
            <a:ext cx="782640" cy="1368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5"/>
          <a:stretch/>
        </p:blipFill>
        <p:spPr>
          <a:xfrm>
            <a:off x="2627280" y="5084640"/>
            <a:ext cx="1295280" cy="857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6"/>
          <a:stretch/>
        </p:blipFill>
        <p:spPr>
          <a:xfrm>
            <a:off x="4356000" y="2421000"/>
            <a:ext cx="782640" cy="1368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7"/>
          <a:stretch/>
        </p:blipFill>
        <p:spPr>
          <a:xfrm>
            <a:off x="4643280" y="2349360"/>
            <a:ext cx="1297080" cy="8589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rot="8100000">
            <a:off x="3634560" y="4652640"/>
            <a:ext cx="1081080" cy="6476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0c0c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0800000">
            <a:off x="2842920" y="3860640"/>
            <a:ext cx="1081080" cy="64800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62000 h 648000"/>
              <a:gd name="textAreaBottom" fmla="*/ 486000 h 648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0c0c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4400000">
            <a:off x="3778560" y="3140280"/>
            <a:ext cx="1081080" cy="6476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0c0c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44000" y="141300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w Cen MT"/>
                <a:ea typeface="さなフォン丸P"/>
              </a:rPr>
              <a:t>既存ツールの補完機能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Appli-Contes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46D7-0E13-439F-A81B-5A45DA1F37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Eras Medium ITC"/>
              </a:rPr>
              <a:t>Case: Announcing</a:t>
            </a:r>
            <a:endParaRPr b="0" lang="en-US" sz="4400" spc="-1" strike="noStrike">
              <a:solidFill>
                <a:srgbClr val="ffcc00"/>
              </a:solidFill>
              <a:latin typeface="Eras Medium ITC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346560" y="1268280"/>
          <a:ext cx="1344600" cy="175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46560" y="1268280"/>
                    <a:ext cx="1344600" cy="17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3995640" y="2492280"/>
            <a:ext cx="1297080" cy="8589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9900000">
            <a:off x="2268000" y="3284280"/>
            <a:ext cx="1081440" cy="647640"/>
          </a:xfrm>
          <a:custGeom>
            <a:avLst/>
            <a:gdLst>
              <a:gd name="textAreaLeft" fmla="*/ 168840 w 1081440"/>
              <a:gd name="textAreaRight" fmla="*/ 946440 w 108144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0c0c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8100000">
            <a:off x="2770920" y="3933360"/>
            <a:ext cx="1081080" cy="6476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0c0c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6300000">
            <a:off x="3491280" y="4293360"/>
            <a:ext cx="1081080" cy="6476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0c0c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3600000">
            <a:off x="4426560" y="4221720"/>
            <a:ext cx="1081080" cy="64800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62000 h 648000"/>
              <a:gd name="textAreaBottom" fmla="*/ 486000 h 648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0c0c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2700000">
            <a:off x="5147280" y="3789720"/>
            <a:ext cx="1081080" cy="64800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62000 h 648000"/>
              <a:gd name="textAreaBottom" fmla="*/ 486000 h 648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0c0c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900000">
            <a:off x="5508720" y="3141360"/>
            <a:ext cx="1081080" cy="6476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0c0c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41440" y="3449520"/>
          <a:ext cx="1305000" cy="121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440" y="3449520"/>
                    <a:ext cx="130500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4" name="" descr=""/>
          <p:cNvPicPr/>
          <p:nvPr/>
        </p:nvPicPr>
        <p:blipFill>
          <a:blip r:embed="rId7"/>
          <a:stretch/>
        </p:blipFill>
        <p:spPr>
          <a:xfrm>
            <a:off x="1116000" y="4365720"/>
            <a:ext cx="865080" cy="573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1620720" y="4241880"/>
          <a:ext cx="1305000" cy="1216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20720" y="4241880"/>
                    <a:ext cx="130500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7" name="" descr=""/>
          <p:cNvPicPr/>
          <p:nvPr/>
        </p:nvPicPr>
        <p:blipFill>
          <a:blip r:embed="rId10"/>
          <a:stretch/>
        </p:blipFill>
        <p:spPr>
          <a:xfrm>
            <a:off x="2195640" y="5157720"/>
            <a:ext cx="865080" cy="573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2917800" y="4818240"/>
          <a:ext cx="1305000" cy="1215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17800" y="4818240"/>
                    <a:ext cx="1305000" cy="12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0" name="" descr=""/>
          <p:cNvPicPr/>
          <p:nvPr/>
        </p:nvPicPr>
        <p:blipFill>
          <a:blip r:embed="rId13"/>
          <a:stretch/>
        </p:blipFill>
        <p:spPr>
          <a:xfrm>
            <a:off x="3492360" y="5734080"/>
            <a:ext cx="865440" cy="573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1" name=""/>
          <p:cNvGraphicFramePr/>
          <p:nvPr/>
        </p:nvGraphicFramePr>
        <p:xfrm>
          <a:off x="6518160" y="3017880"/>
          <a:ext cx="1305000" cy="1216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518160" y="3017880"/>
                    <a:ext cx="130500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3" name="" descr=""/>
          <p:cNvPicPr/>
          <p:nvPr/>
        </p:nvPicPr>
        <p:blipFill>
          <a:blip r:embed="rId16"/>
          <a:stretch/>
        </p:blipFill>
        <p:spPr>
          <a:xfrm>
            <a:off x="7093080" y="3933720"/>
            <a:ext cx="865080" cy="573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"/>
          <p:cNvGraphicFramePr/>
          <p:nvPr/>
        </p:nvGraphicFramePr>
        <p:xfrm>
          <a:off x="6157800" y="3881520"/>
          <a:ext cx="1305000" cy="1216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157800" y="3881520"/>
                    <a:ext cx="130500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6" name="" descr=""/>
          <p:cNvPicPr/>
          <p:nvPr/>
        </p:nvPicPr>
        <p:blipFill>
          <a:blip r:embed="rId19"/>
          <a:stretch/>
        </p:blipFill>
        <p:spPr>
          <a:xfrm>
            <a:off x="6732720" y="4797360"/>
            <a:ext cx="865080" cy="573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5653080" y="4457880"/>
          <a:ext cx="1305000" cy="12157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653080" y="4457880"/>
                    <a:ext cx="1305000" cy="12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9" name="" descr=""/>
          <p:cNvPicPr/>
          <p:nvPr/>
        </p:nvPicPr>
        <p:blipFill>
          <a:blip r:embed="rId22"/>
          <a:stretch/>
        </p:blipFill>
        <p:spPr>
          <a:xfrm>
            <a:off x="6227640" y="5373720"/>
            <a:ext cx="865440" cy="573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"/>
          <p:cNvGraphicFramePr/>
          <p:nvPr/>
        </p:nvGraphicFramePr>
        <p:xfrm>
          <a:off x="4933800" y="4889520"/>
          <a:ext cx="1305000" cy="12160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933800" y="4889520"/>
                    <a:ext cx="130500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2" name="" descr=""/>
          <p:cNvPicPr/>
          <p:nvPr/>
        </p:nvPicPr>
        <p:blipFill>
          <a:blip r:embed="rId25"/>
          <a:stretch/>
        </p:blipFill>
        <p:spPr>
          <a:xfrm>
            <a:off x="5508720" y="5805360"/>
            <a:ext cx="865080" cy="5731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109520" y="14130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w Cen MT"/>
                <a:ea typeface="さなフォン丸P"/>
              </a:rPr>
              <a:t>同報通知ツール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Appli-Contes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74ED-0FFE-45D3-91FE-77EDE4D7BA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Eras Medium ITC"/>
              </a:rPr>
              <a:t>Summary</a:t>
            </a:r>
            <a:endParaRPr b="0" lang="en-US" sz="4400" spc="-1" strike="noStrike">
              <a:solidFill>
                <a:srgbClr val="ffcc00"/>
              </a:solidFill>
              <a:latin typeface="Eras Medium IT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ras Medium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Eras Medium ITC"/>
              </a:rPr>
              <a:t>簡単ステップによる </a:t>
            </a:r>
            <a:r>
              <a:rPr b="0" lang="ja-JP" sz="3200" spc="-1" strike="noStrike">
                <a:solidFill>
                  <a:srgbClr val="ffffff"/>
                </a:solidFill>
                <a:latin typeface="Eras Medium ITC"/>
              </a:rPr>
              <a:t>PushToTalk!</a:t>
            </a: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Eras Medium ITC"/>
              </a:rPr>
              <a:t>1. </a:t>
            </a:r>
            <a:r>
              <a:rPr b="0" lang="ja-JP" sz="2800" spc="-1" strike="noStrike">
                <a:solidFill>
                  <a:srgbClr val="ffffff"/>
                </a:solidFill>
                <a:latin typeface="Eras Medium ITC"/>
              </a:rPr>
              <a:t>相手先を指定</a:t>
            </a:r>
            <a:endParaRPr b="0" lang="en-US" sz="2800" spc="-1" strike="noStrike">
              <a:solidFill>
                <a:srgbClr val="ffffff"/>
              </a:solidFill>
              <a:latin typeface="Eras Medium ITC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Eras Medium ITC"/>
              </a:rPr>
              <a:t>2. </a:t>
            </a:r>
            <a:r>
              <a:rPr b="0" lang="ja-JP" sz="2800" spc="-1" strike="noStrike">
                <a:solidFill>
                  <a:srgbClr val="ffffff"/>
                </a:solidFill>
                <a:latin typeface="Eras Medium ITC"/>
              </a:rPr>
              <a:t>録音開始</a:t>
            </a:r>
            <a:endParaRPr b="0" lang="en-US" sz="2800" spc="-1" strike="noStrike">
              <a:solidFill>
                <a:srgbClr val="ffffff"/>
              </a:solidFill>
              <a:latin typeface="Eras Medium ITC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Eras Medium ITC"/>
              </a:rPr>
              <a:t>3. </a:t>
            </a:r>
            <a:r>
              <a:rPr b="0" lang="ja-JP" sz="2800" spc="-1" strike="noStrike">
                <a:solidFill>
                  <a:srgbClr val="ffffff"/>
                </a:solidFill>
                <a:latin typeface="Eras Medium ITC"/>
              </a:rPr>
              <a:t>自動配信</a:t>
            </a:r>
            <a:r>
              <a:rPr b="0" lang="ja-JP" sz="2800" spc="-1" strike="noStrike">
                <a:solidFill>
                  <a:srgbClr val="ffffff"/>
                </a:solidFill>
                <a:latin typeface="Eras Medium ITC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Eras Medium IT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ras Medium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Eras Medium ITC"/>
              </a:rPr>
              <a:t>多対多の動画対応による新コミュニケーション</a:t>
            </a:r>
            <a:endParaRPr b="0" lang="en-US" sz="32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Appli-Contes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AA09-2010-4691-B559-76F40746B9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15:01:26Z</dcterms:created>
  <dc:creator>小野雄太郎</dc:creator>
  <dc:description/>
  <dc:language>en-US</dc:language>
  <cp:lastModifiedBy>小野雄太郎</cp:lastModifiedBy>
  <dcterms:modified xsi:type="dcterms:W3CDTF">2005-12-25T06:21:13Z</dcterms:modified>
  <cp:revision>53</cp:revision>
  <dc:subject>IPv6 Appli-Contest 2006</dc:subject>
  <dc:title>PushToCast</dc:title>
</cp:coreProperties>
</file>